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3B47-DC8B-471D-9E47-A23C33148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5DA1-F81B-4690-A876-60068724A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CE59-F87A-44B4-B00F-217EC0DC5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BC9-939B-4811-876F-4ADF6E7BA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D4E7-0EC6-4B9B-AE13-0C4885706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A0AC-E80E-41AE-A584-07B2BC96A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A54D-827E-436D-95FD-2065CFB9F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2544-D7D7-4181-8053-9D1DD993E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5E9C-E255-47DE-8E6A-48C3F6CD5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F7FC-B281-458F-99F2-25BE6247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8BC5-863B-4CE7-AC58-1897E3F79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4B73-3477-45B3-8F2A-466CC705A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559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88afa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74be3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74be3"/>
              </a:buClr>
              <a:buFont typeface="Webdings" charset="2"/>
              <a:buChar char="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&lt;num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ei_banner_ppt_1"/>
          <p:cNvPicPr/>
          <p:nvPr/>
        </p:nvPicPr>
        <p:blipFill>
          <a:blip r:embed="rId2"/>
          <a:stretch/>
        </p:blipFill>
        <p:spPr>
          <a:xfrm>
            <a:off x="0" y="0"/>
            <a:ext cx="9144000" cy="79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88afa"/>
                </a:solidFill>
                <a:latin typeface="Arial Narrow"/>
              </a:rPr>
              <a:t>MOBILISING FOR QUALITY EDUCATION (MQE)</a:t>
            </a:r>
            <a:br>
              <a:rPr sz="4400"/>
            </a:br>
            <a:br>
              <a:rPr sz="4400"/>
            </a:br>
            <a:r>
              <a:rPr b="1" lang="en-GB" sz="2400" spc="-1" strike="noStrike">
                <a:solidFill>
                  <a:srgbClr val="588afa"/>
                </a:solidFill>
                <a:latin typeface="Arial Narrow"/>
              </a:rPr>
              <a:t>Dennis Sinyolo </a:t>
            </a:r>
            <a:br>
              <a:rPr sz="2400"/>
            </a:br>
            <a:r>
              <a:rPr b="1" lang="en-GB" sz="2400" spc="-1" strike="noStrike">
                <a:solidFill>
                  <a:srgbClr val="588afa"/>
                </a:solidFill>
                <a:latin typeface="Arial Narrow"/>
              </a:rPr>
              <a:t>EI Senior Coordinator, Education and Employment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71380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149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tionale for MQE and its aim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ree pillars of quality education in MQ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 post-2015 development and education agend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149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Outline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vidence from GMR indicates that current MDGs and EFA targets will not be achie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61 million children (primary) &amp; 71 million adolescents out of scho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775 million adults (2/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of them women) still not liter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112 countries to expand their workforce by 5.4 million primary school teachers to achieve EFA by 201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US$ 26 billion financing gap for basic edu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ality of current education provision under attack – crisis, privatisation, tes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Rationale for MQE  </a:t>
            </a:r>
            <a:br>
              <a:rPr sz="4400"/>
            </a:b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MQE aim and objectives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To mobilize EI member organizations and the international community in order to achieve the highest quality of education for all, which is attainable in each count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create awareness among governments, inter-governmental agencies and society generally that quality public education provision for all is one of the fundamental pillars of a just and equitable society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ensure that quality education is a central part of any global post-2015 development strategy (the teaching profession to be involved in the development &amp; implementation of the strategy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1484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ality teaching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– ensured through the recruitment of high calibre candidates to teaching, high quality initial teacher education and continuous professional development and attractive salaries and conditions of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ality tools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– appropriate curricula and inclusive teaching and learning materials and resources, including I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Quality environments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– supportive, comfortable, safe and secure teaching and learning environments with the appropriate facilities to support student learning and to enable teachers to teach effectiv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Three pillars of quality</a:t>
            </a:r>
            <a:br>
              <a:rPr sz="4400"/>
            </a:b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141300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Three main track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4360" y="98100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The post-2015 agenda</a:t>
            </a:r>
            <a:br>
              <a:rPr sz="4400"/>
            </a:b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  <p:sp>
        <p:nvSpPr>
          <p:cNvPr id="53" name="Right Arrow 1"/>
          <p:cNvSpPr/>
          <p:nvPr/>
        </p:nvSpPr>
        <p:spPr>
          <a:xfrm rot="499800">
            <a:off x="698040" y="2815920"/>
            <a:ext cx="3592440" cy="484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SDGs/Rio +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4"/>
          <p:cNvSpPr/>
          <p:nvPr/>
        </p:nvSpPr>
        <p:spPr>
          <a:xfrm>
            <a:off x="698400" y="3562200"/>
            <a:ext cx="3608640" cy="4842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5"/>
          <p:cNvSpPr/>
          <p:nvPr/>
        </p:nvSpPr>
        <p:spPr>
          <a:xfrm>
            <a:off x="698400" y="4452840"/>
            <a:ext cx="7905960" cy="4860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FA/post-2015</a:t>
            </a:r>
            <a:r>
              <a:rPr b="0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ducation</a:t>
            </a:r>
            <a:r>
              <a:rPr b="0" lang="en-GB" sz="1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6"/>
          <p:cNvSpPr/>
          <p:nvPr/>
        </p:nvSpPr>
        <p:spPr>
          <a:xfrm>
            <a:off x="4334040" y="2976480"/>
            <a:ext cx="4368600" cy="1163880"/>
          </a:xfrm>
          <a:prstGeom prst="rightArrow">
            <a:avLst>
              <a:gd name="adj1" fmla="val 80435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Post-2015 develop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864072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EFA assess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EI study fellowshi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dvocacy – UN (GEFI, UNESCO, WB, UNICEF…), HLP, G8/G20, national government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EI Guidelines on the Post-2015 Agend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Ten Principles developed with the support of ‘Critical Friends’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One-pager with proposed EI goal, targets and indica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149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EI/union positioning &amp; participation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Goal: ‘Ensure universal free quality education’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arget 1: Every child completes a fully cycle of continuous free quality early childhood, primary and secondary education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arget 2: All young people and adults have equitable access to quality-post secondary education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10920" y="692280"/>
            <a:ext cx="7915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Narrow"/>
              </a:rPr>
              <a:t>Proposed EI goal &amp; targets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892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March 2013       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EI Exbo adopts MQ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May 2013          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HLP submits report to UN Secretary Gener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September 2013 (5 &amp; 7)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G20 Summit, St Petersbur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September 2013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UNGA/MDG Summit, New York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October 2013 (WTD)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Official launch of MQE in New Y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November 2013 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GEM, Par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May 2014           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EI Global Education Conferenc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September 2014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MDG Summit, New Y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 Narrow"/>
              </a:rPr>
              <a:t>2015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UNESCO World Education Forum, Seou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10920" y="764640"/>
            <a:ext cx="7915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88afa"/>
                </a:solidFill>
                <a:latin typeface="Arial Narrow"/>
              </a:rPr>
              <a:t>Time line</a:t>
            </a:r>
            <a:endParaRPr b="1" lang="en-US" sz="4400" spc="-1" strike="noStrike">
              <a:solidFill>
                <a:srgbClr val="588af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7:14:11Z</dcterms:created>
  <dc:creator>Dennis Sinyolo</dc:creator>
  <dc:description/>
  <dc:language>en-US</dc:language>
  <cp:lastModifiedBy>Wim Thomaere</cp:lastModifiedBy>
  <dcterms:modified xsi:type="dcterms:W3CDTF">2013-04-15T11:43:27Z</dcterms:modified>
  <cp:revision>225</cp:revision>
  <dc:subject/>
  <dc:title>Early Childhood Education Policies, Systems, Programmes and Activities Across the Globe</dc:title>
</cp:coreProperties>
</file>