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0.wmf" ContentType="image/x-wmf"/>
  <Override PartName="/ppt/media/image11.png" ContentType="image/png"/>
  <Override PartName="/ppt/media/image3.jpeg" ContentType="image/jpeg"/>
  <Override PartName="/ppt/media/image4.png" ContentType="image/png"/>
  <Override PartName="/ppt/media/image2.gif" ContentType="image/gif"/>
  <Override PartName="/ppt/media/image8.jpeg" ContentType="image/jpe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22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041C-A413-45B5-BBBE-83C917705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AF51-81A1-4547-88B8-258B9725F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2A02-44E1-4CE4-9D89-B04E4F59B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02FC-CBF8-4428-A226-B40ECEBB4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E4FC-18D3-44AE-977A-A71BAAEB8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E383-59DC-4F37-BFE4-1DCE2A5CF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41F4-9A43-4067-BB90-477D29749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4DED-A697-42DE-ADC3-488D5C8EF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84CA-CDF3-4ABE-8D87-EF64F2D72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DDFD-BC6C-4EC3-94FB-E309946E2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7299-12C7-4BF8-9303-D0B174499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E9FA-2C6D-4F09-B38E-B0D931D26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6EA-5594-4C40-8D3D-038085AA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9D7-67EE-4227-BBA0-06E145D0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522-D1BD-40E7-B259-99E6A75C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298-5852-4F94-BC3A-7F36E063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95C-548A-4B81-9132-EC466CDC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F97-70C7-45D2-8CD9-732CA716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7B3-912F-4322-9FEE-6FEAE777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9AA-1611-4F74-8F21-D8EC8AB9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93C-0228-4A7C-A7B6-170A70BD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8AF-3FB9-4114-B629-3039A5EA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450-A592-477B-B93B-98C3AE38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28C-511E-43E8-876C-01F9865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AE06-C389-4066-92F3-8FFDACA04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menlobby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change.org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FONDcouv2"/>
          <p:cNvPicPr/>
          <p:nvPr/>
        </p:nvPicPr>
        <p:blipFill>
          <a:blip r:embed="rId1"/>
          <a:stretch/>
        </p:blipFill>
        <p:spPr>
          <a:xfrm>
            <a:off x="0" y="0"/>
            <a:ext cx="9144000" cy="641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Violence against Women in Europe: a Call for Action!</a:t>
            </a:r>
            <a:br>
              <a:rPr sz="5400"/>
            </a:br>
            <a:br>
              <a:rPr sz="25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003640" y="5732640"/>
            <a:ext cx="3780000" cy="100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ierrette P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4d82d"/>
                </a:solidFill>
                <a:latin typeface="Calibri"/>
              </a:rPr>
              <a:t>EWL Policy Officer and Project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5" descr="FONDpages_intérieures2"/>
          <p:cNvPicPr/>
          <p:nvPr/>
        </p:nvPicPr>
        <p:blipFill>
          <a:blip r:embed="rId1"/>
          <a:stretch/>
        </p:blipFill>
        <p:spPr>
          <a:xfrm>
            <a:off x="0" y="4775040"/>
            <a:ext cx="9144000" cy="20829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571680" y="1688760"/>
            <a:ext cx="41446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5800" spc="-1" strike="noStrike">
                <a:solidFill>
                  <a:srgbClr val="000000"/>
                </a:solidFill>
                <a:latin typeface="Calibri"/>
              </a:rPr>
              <a:t>Become Friend of the EWL!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badge"/>
          <p:cNvPicPr/>
          <p:nvPr/>
        </p:nvPicPr>
        <p:blipFill>
          <a:blip r:embed="rId2"/>
          <a:stretch/>
        </p:blipFill>
        <p:spPr>
          <a:xfrm>
            <a:off x="4643280" y="1341360"/>
            <a:ext cx="3745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7" descr="FONDcouv2"/>
          <p:cNvPicPr/>
          <p:nvPr/>
        </p:nvPicPr>
        <p:blipFill>
          <a:blip r:embed="rId1"/>
          <a:stretch/>
        </p:blipFill>
        <p:spPr>
          <a:xfrm>
            <a:off x="0" y="0"/>
            <a:ext cx="9144000" cy="6416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Thank you!</a:t>
            </a:r>
            <a:br>
              <a:rPr sz="6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re information:</a:t>
            </a: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womenlobby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mega"/>
          <p:cNvPicPr/>
          <p:nvPr/>
        </p:nvPicPr>
        <p:blipFill>
          <a:blip r:embed="rId1"/>
          <a:stretch/>
        </p:blipFill>
        <p:spPr>
          <a:xfrm>
            <a:off x="0" y="0"/>
            <a:ext cx="4343400" cy="4199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FONDpages_intérieures2"/>
          <p:cNvPicPr/>
          <p:nvPr/>
        </p:nvPicPr>
        <p:blipFill>
          <a:blip r:embed="rId2"/>
          <a:stretch/>
        </p:blipFill>
        <p:spPr>
          <a:xfrm>
            <a:off x="0" y="4775040"/>
            <a:ext cx="9144000" cy="2082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1042920" y="1557360"/>
            <a:ext cx="785016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4d82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largest umbrella organisation of women’s associations in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4d82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tional co ordinations in 31 European countries and 21 European-wide member organisations (migrant women, women farmers, women lawyers, trade unions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4d82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entrating on European-level, but activities from local to internat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4d82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iming to promote women’s rights and gender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5010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d92e"/>
                </a:solidFill>
                <a:latin typeface="Calibri"/>
              </a:rPr>
              <a:t>The voice of European W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5" descr="FONDpages_intérieures2"/>
          <p:cNvPicPr/>
          <p:nvPr/>
        </p:nvPicPr>
        <p:blipFill>
          <a:blip r:embed="rId1"/>
          <a:stretch/>
        </p:blipFill>
        <p:spPr>
          <a:xfrm>
            <a:off x="0" y="4775040"/>
            <a:ext cx="9144000" cy="2082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17000"/>
            <a:ext cx="8820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d92e"/>
                </a:solidFill>
                <a:latin typeface="Calibri"/>
              </a:rPr>
              <a:t>EWL campaign for 2016 as EU Year to End Violence against Women and Girls (VAW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395280" y="1268280"/>
            <a:ext cx="5400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cc83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wareness raising on VA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cc83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vocacy at Europe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cc83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-petition o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chang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3564000" cy="540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4"/>
          <a:srcRect l="11079" t="18519" r="12201" b="5556"/>
          <a:stretch/>
        </p:blipFill>
        <p:spPr>
          <a:xfrm>
            <a:off x="235080" y="3716280"/>
            <a:ext cx="46972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5" descr="FONDpages_intérieures2"/>
          <p:cNvPicPr/>
          <p:nvPr/>
        </p:nvPicPr>
        <p:blipFill>
          <a:blip r:embed="rId1"/>
          <a:stretch/>
        </p:blipFill>
        <p:spPr>
          <a:xfrm>
            <a:off x="0" y="4775040"/>
            <a:ext cx="9144000" cy="2082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117000"/>
            <a:ext cx="4897440" cy="17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d92e"/>
                </a:solidFill>
                <a:latin typeface="Calibri"/>
              </a:rPr>
              <a:t>EWL campaign </a:t>
            </a:r>
            <a:br>
              <a:rPr sz="3600"/>
            </a:br>
            <a:r>
              <a:rPr b="1" lang="en-US" sz="3600" spc="-1" strike="noStrike">
                <a:solidFill>
                  <a:srgbClr val="c4d92e"/>
                </a:solidFill>
                <a:latin typeface="Calibri"/>
              </a:rPr>
              <a:t>‘Together for a Europe </a:t>
            </a:r>
            <a:br>
              <a:rPr sz="3600"/>
            </a:br>
            <a:r>
              <a:rPr b="1" lang="en-US" sz="3600" spc="-1" strike="noStrike">
                <a:solidFill>
                  <a:srgbClr val="c4d92e"/>
                </a:solidFill>
                <a:latin typeface="Calibri"/>
              </a:rPr>
              <a:t>free from prostitution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95280" y="1268280"/>
            <a:ext cx="65833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cc83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wareness ra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cc83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vocacy at European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cc83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wards a European abolitionist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LOGO_PROSTITUTION_RVB_EN.jpg"/>
          <p:cNvPicPr/>
          <p:nvPr/>
        </p:nvPicPr>
        <p:blipFill>
          <a:blip r:embed="rId2"/>
          <a:stretch/>
        </p:blipFill>
        <p:spPr>
          <a:xfrm>
            <a:off x="5292720" y="115920"/>
            <a:ext cx="3724200" cy="182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6581880" y="2349360"/>
            <a:ext cx="2425680" cy="1516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MEPs give prostitution a RED CARD 30"/>
          <p:cNvPicPr/>
          <p:nvPr/>
        </p:nvPicPr>
        <p:blipFill>
          <a:blip r:embed="rId4"/>
          <a:srcRect l="0" t="18966" r="0" b="13973"/>
          <a:stretch/>
        </p:blipFill>
        <p:spPr>
          <a:xfrm>
            <a:off x="299880" y="3716280"/>
            <a:ext cx="431172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5"/>
          <a:stretch/>
        </p:blipFill>
        <p:spPr>
          <a:xfrm>
            <a:off x="2411280" y="5175360"/>
            <a:ext cx="4032360" cy="157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1"/>
          <p:cNvGraphicFramePr/>
          <p:nvPr/>
        </p:nvGraphicFramePr>
        <p:xfrm>
          <a:off x="6983280" y="4245120"/>
          <a:ext cx="1765440" cy="2496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83280" y="4245120"/>
                    <a:ext cx="176544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5" descr="FONDpages_intérieures2"/>
          <p:cNvPicPr/>
          <p:nvPr/>
        </p:nvPicPr>
        <p:blipFill>
          <a:blip r:embed="rId1"/>
          <a:stretch/>
        </p:blipFill>
        <p:spPr>
          <a:xfrm>
            <a:off x="0" y="4775040"/>
            <a:ext cx="9144000" cy="20829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d92e"/>
                </a:solidFill>
                <a:latin typeface="Calibri"/>
              </a:rPr>
              <a:t>One Billion Rising Brussels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95280" y="1125360"/>
            <a:ext cx="83534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WL song and choreography ‘Rise Up, Stand Up!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0 people dancing in Brussels (training ses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Facebook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Raising awareness: press work (EU and national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aging decision-makers: several EU Commissioners and Members of the European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message and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The EWL and its members at the UN Commission on the Status of Women"/>
          <p:cNvPicPr/>
          <p:nvPr/>
        </p:nvPicPr>
        <p:blipFill>
          <a:blip r:embed="rId2"/>
          <a:stretch/>
        </p:blipFill>
        <p:spPr>
          <a:xfrm>
            <a:off x="4500720" y="4646520"/>
            <a:ext cx="535284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One Billion Rising: huge mobilisation in Brussels!"/>
          <p:cNvPicPr/>
          <p:nvPr/>
        </p:nvPicPr>
        <p:blipFill>
          <a:blip r:embed="rId3"/>
          <a:stretch/>
        </p:blipFill>
        <p:spPr>
          <a:xfrm>
            <a:off x="-123840" y="4646520"/>
            <a:ext cx="53532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5" descr="FONDpages_intérieures2"/>
          <p:cNvPicPr/>
          <p:nvPr/>
        </p:nvPicPr>
        <p:blipFill>
          <a:blip r:embed="rId1"/>
          <a:stretch/>
        </p:blipFill>
        <p:spPr>
          <a:xfrm>
            <a:off x="0" y="4775040"/>
            <a:ext cx="9144000" cy="20829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d92e"/>
                </a:solidFill>
                <a:latin typeface="Calibri"/>
              </a:rPr>
              <a:t>One Billion Rising Brussels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rcRect l="10907" t="12000" r="27558" b="18184"/>
          <a:stretch/>
        </p:blipFill>
        <p:spPr>
          <a:xfrm>
            <a:off x="900000" y="1125360"/>
            <a:ext cx="750096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5" descr="FONDpages_intérieures2"/>
          <p:cNvPicPr/>
          <p:nvPr/>
        </p:nvPicPr>
        <p:blipFill>
          <a:blip r:embed="rId1"/>
          <a:stretch/>
        </p:blipFill>
        <p:spPr>
          <a:xfrm>
            <a:off x="0" y="4775040"/>
            <a:ext cx="9144000" cy="20829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79640" y="-360"/>
            <a:ext cx="280836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d92e"/>
                </a:solidFill>
                <a:latin typeface="Calibri"/>
              </a:rPr>
              <a:t>Dance train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www.womenlobby.org/local/cache-vignettes/L560xH420/p1010443-f90a7-61ddd.jpg"/>
          <p:cNvPicPr/>
          <p:nvPr/>
        </p:nvPicPr>
        <p:blipFill>
          <a:blip r:embed="rId2"/>
          <a:stretch/>
        </p:blipFill>
        <p:spPr>
          <a:xfrm>
            <a:off x="-1260360" y="299736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www.womenlobby.org/local/cache-vignettes/L560xH420/p1010353-3ac5d-e3d6e.jpg"/>
          <p:cNvPicPr/>
          <p:nvPr/>
        </p:nvPicPr>
        <p:blipFill>
          <a:blip r:embed="rId3"/>
          <a:stretch/>
        </p:blipFill>
        <p:spPr>
          <a:xfrm>
            <a:off x="3809880" y="285768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womenlobby.org/local/cache-vignettes/L560xH420/p1010406-70276-e8280.jpg"/>
          <p:cNvPicPr/>
          <p:nvPr/>
        </p:nvPicPr>
        <p:blipFill>
          <a:blip r:embed="rId4"/>
          <a:stretch/>
        </p:blipFill>
        <p:spPr>
          <a:xfrm>
            <a:off x="0" y="-5317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5" descr="FONDpages_intérieures2"/>
          <p:cNvPicPr/>
          <p:nvPr/>
        </p:nvPicPr>
        <p:blipFill>
          <a:blip r:embed="rId1"/>
          <a:stretch/>
        </p:blipFill>
        <p:spPr>
          <a:xfrm>
            <a:off x="0" y="4775040"/>
            <a:ext cx="9144000" cy="2082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d92e"/>
                </a:solidFill>
                <a:latin typeface="Calibri"/>
              </a:rPr>
              <a:t>One Billion Rising Brussels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rcRect l="16760" t="17003" r="31934" b="26546"/>
          <a:stretch/>
        </p:blipFill>
        <p:spPr>
          <a:xfrm>
            <a:off x="519120" y="914400"/>
            <a:ext cx="80136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5" descr="FONDpages_intérieures2"/>
          <p:cNvPicPr/>
          <p:nvPr/>
        </p:nvPicPr>
        <p:blipFill>
          <a:blip r:embed="rId1"/>
          <a:stretch/>
        </p:blipFill>
        <p:spPr>
          <a:xfrm>
            <a:off x="0" y="4775040"/>
            <a:ext cx="9144000" cy="2082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d92e"/>
                </a:solidFill>
                <a:latin typeface="Calibri"/>
              </a:rPr>
              <a:t>Organising a flahmob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539640" y="1197000"/>
            <a:ext cx="8136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your object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r targets? Press ? Decision-makers? Broader 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you need to thin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 actions according to your object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people to talk about the issue? Or one-sh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e peo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ty of the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2:58:02Z</dcterms:created>
  <dc:creator>Amandine Bach</dc:creator>
  <dc:description/>
  <dc:language>en-US</dc:language>
  <cp:lastModifiedBy>Pierrette Pape</cp:lastModifiedBy>
  <cp:lastPrinted>2012-11-19T17:39:55Z</cp:lastPrinted>
  <dcterms:modified xsi:type="dcterms:W3CDTF">2013-06-05T13:13:31Z</dcterms:modified>
  <cp:revision>484</cp:revision>
  <dc:subject/>
  <dc:title>TITRE DU DOCUMENT LIEU, DATE, NATURE DE L’INTERVENTION</dc:title>
</cp:coreProperties>
</file>