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22.wmf" ContentType="image/x-wmf"/>
  <Override PartName="/ppt/media/image19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16.wmf" ContentType="image/x-wmf"/>
  <Override PartName="/ppt/media/image8.png" ContentType="image/png"/>
  <Override PartName="/ppt/media/image27.png" ContentType="image/png"/>
  <Override PartName="/ppt/media/image12.wmf" ContentType="image/x-wmf"/>
  <Override PartName="/ppt/media/image7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4.png" ContentType="image/png"/>
  <Override PartName="/ppt/media/image3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21.png" ContentType="image/png"/>
  <Override PartName="/ppt/media/image20.png" ContentType="image/png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B4A1-E3D9-45FB-884D-EBC6D15BD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ANCIAL/ECONOMIC CRISIS AND EDUCATION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801-A7E0-4A43-917B-8332977A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B32-CC4E-4765-B1AF-99F559B7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C12-08BB-42C9-B0B9-E92F00A2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717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717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684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4684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4684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BCC-7BB4-4D49-8BC5-13F3B070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9E7A-A211-4FD4-A4C8-8871A472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BC5D-F5DE-4471-B4C6-B1B8A37C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7E6E-6201-4BFB-8D9E-0C3C2BAE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92EC-99B8-49F4-863C-4432595A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D536-F1A6-410C-9E47-5EAB81B0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856800"/>
            <a:ext cx="82580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D248-737A-4415-8D2F-2A2D71BD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79F1-29D3-45A8-BA53-8BF2BA4C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0594-7189-4724-99F0-367C2ACB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5874-5E8D-4389-81B3-17DAF4EC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4BC6-66F8-4DF7-B3C3-1259E9D1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07CA-FF49-4BEE-8AE2-9FAE1886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FBEA-D269-4EF0-8B56-7CAB37DF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717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717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4684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4684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4684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D5DE-55CE-4367-8F89-C06296A6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BD4-D1EB-4001-99EE-2590B63E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C5F-5C32-4F8A-9E96-0466E8FE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1BF-0B5F-48D6-A9AF-D60696F1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856800"/>
            <a:ext cx="82580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6F9-A7CD-469A-8414-9DE4280B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0EF-D9AE-4F70-A9CA-97CA9179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133-581C-4A0C-9740-B5CE20B3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7246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E57-B19D-4680-B404-B032BAD8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_Crisis2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856800"/>
            <a:ext cx="82580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9bbb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2560" y="6708240"/>
            <a:ext cx="2133720" cy="1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56920" y="6714720"/>
            <a:ext cx="400068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714720"/>
            <a:ext cx="87660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0E65-B3B1-4744-A68F-B01DDF12D3AD}" type="slidenum">
              <a:rPr b="0" lang="en-US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A674-C907-457E-BF33-1C084B129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hyperlink" Target="http://www.slate.com/id/2222807/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newsweek.com/" TargetMode="External"/><Relationship Id="rId6" Type="http://schemas.openxmlformats.org/officeDocument/2006/relationships/image" Target="../media/image10.png"/><Relationship Id="rId7" Type="http://schemas.openxmlformats.org/officeDocument/2006/relationships/hyperlink" Target="http://www.marketwatch.com/" TargetMode="External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57120" y="100008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000" spc="-1" strike="noStrike">
                <a:solidFill>
                  <a:srgbClr val="00b0f0"/>
                </a:solidFill>
                <a:latin typeface="Calibri"/>
              </a:rPr>
              <a:t>IMPACT OF THE CRISIS ON EDUCATION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05440" y="3643200"/>
            <a:ext cx="70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b0f0"/>
                </a:solidFill>
                <a:latin typeface="Calibri"/>
              </a:rPr>
              <a:t>UPDATE ON ECONOMIC DEVELOPMEN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521280" y="2357280"/>
            <a:ext cx="64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b0f0"/>
                </a:solidFill>
                <a:latin typeface="Calibri"/>
              </a:rPr>
              <a:t>REPORT TO THE EI EXECUTIVE BOARD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b0f0"/>
                </a:solidFill>
                <a:latin typeface="Calibri"/>
              </a:rPr>
              <a:t>1-3 December 2009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654480" y="4857840"/>
            <a:ext cx="16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b0f0"/>
                </a:solidFill>
                <a:latin typeface="Calibri"/>
              </a:rPr>
              <a:t>Bob Harr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393840" y="642960"/>
            <a:ext cx="7582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 impact in developing countries is dramati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ld Bank,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6 November 2009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357120" y="107172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428760" y="1714680"/>
            <a:ext cx="871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3 low-income developing countries are suffering from the combined effects of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ood, fuel and economic cris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428760" y="242892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ancing shortfalls to cover cor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s amount to $11.6 billion for the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i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428760" y="314316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0 million more people will be living in extreme poverty, on less than $1.25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day, by the end of 201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408960" y="3786120"/>
            <a:ext cx="72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hanta Devarajan, World Bank chief economist for the Africa region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688680" y="4929120"/>
            <a:ext cx="861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e of the most disturbing statistics we found is that when you have these kind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f growth slowdowns, infants die -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you could lose about 30,000 to 50,000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infants before their 1st birthday”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571680" y="428616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t took about six months for the economic crisis to hit Africa.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Africa’s growth rate dropped from 4.8% a year in 2008 to about 1% in 2009”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8143920" y="71424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592920" y="785880"/>
            <a:ext cx="824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Prospects for Central &amp; Eastern Europe and Central Asia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The World Bank, 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2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571680" y="178596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742320" y="1928880"/>
            <a:ext cx="783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respite in sight for emerging Europe and Central Asia, says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gion’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hief Economist Indermit Gil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739080" y="2643120"/>
            <a:ext cx="807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omic growth across the region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negative 6%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9, with sever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ies in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egative 10% r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Official unemployment has increas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8.5 million to 11.5 million. The actual number of unemployed may b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ch higher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736920" y="3929040"/>
            <a:ext cx="81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scal deficits are expected to more th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i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some countries and fo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vernments to work with smaller budget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759960" y="4643280"/>
            <a:ext cx="774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stead of the number of poor falling by about 15 million this year, it will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tually increase by almost 15 million. So we are seeing a big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fference of essentially about 30 million poor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ays Gill.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TUAC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 trade union advisory committee to the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OECD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Wingdings"/>
                <a:ea typeface="Wingdings"/>
              </a:rPr>
              <a:t>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CSC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 commission syndicale consultative auprès de l’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OCDE</a:t>
            </a:r>
            <a:endParaRPr b="0" lang="en-US" sz="1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5840" y="914400"/>
            <a:ext cx="6913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360360" cy="3650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714240" y="1143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mbria"/>
              </a:rPr>
              <a:t>Global Economic Prospects for 2010 – according to the IMF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2000160" y="1571760"/>
            <a:ext cx="5327640" cy="4792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50004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TUAC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 trade union advisory committee to the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OECD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Wingdings"/>
                <a:ea typeface="Wingdings"/>
              </a:rPr>
              <a:t>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CSC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 commission syndicale consultative auprès de l’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OCDE</a:t>
            </a:r>
            <a:endParaRPr b="0" lang="en-US" sz="1200" spc="-1" strike="noStrike">
              <a:solidFill>
                <a:srgbClr val="c0504d"/>
              </a:solidFill>
              <a:latin typeface="Calibri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1214280" y="500040"/>
            <a:ext cx="360360" cy="365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857160" y="10000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ambria"/>
              </a:rPr>
              <a:t>Overview of the IMF-</a:t>
            </a:r>
            <a:r>
              <a:rPr b="1" i="1" lang="de-DE" sz="1800" spc="-1" strike="noStrike">
                <a:solidFill>
                  <a:srgbClr val="0033cc"/>
                </a:solidFill>
                <a:latin typeface="Cambria"/>
              </a:rPr>
              <a:t>World Economic Outlook </a:t>
            </a:r>
            <a:r>
              <a:rPr b="1" lang="de-DE" sz="1800" spc="-1" strike="noStrike">
                <a:solidFill>
                  <a:srgbClr val="0033cc"/>
                </a:solidFill>
                <a:latin typeface="Cambria"/>
              </a:rPr>
              <a:t>Projections for the G20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rcRect l="0" t="7933" r="37623" b="0"/>
          <a:stretch/>
        </p:blipFill>
        <p:spPr>
          <a:xfrm>
            <a:off x="2286000" y="1357200"/>
            <a:ext cx="4500720" cy="4977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5840" y="571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TUAC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 trade union advisory committee to the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OECD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Wingdings"/>
                <a:ea typeface="Wingdings"/>
              </a:rPr>
              <a:t>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CSC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 commission syndicale consultative auprès de l’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OCDE</a:t>
            </a:r>
            <a:endParaRPr b="0" lang="en-US" sz="1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6913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360360" cy="365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2"/>
          <a:srcRect l="0" t="7016" r="48520" b="0"/>
          <a:stretch/>
        </p:blipFill>
        <p:spPr>
          <a:xfrm>
            <a:off x="428760" y="1928880"/>
            <a:ext cx="4357440" cy="3786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3"/>
          <a:srcRect l="49797" t="7016" r="1255" b="0"/>
          <a:stretch/>
        </p:blipFill>
        <p:spPr>
          <a:xfrm>
            <a:off x="4643280" y="1928880"/>
            <a:ext cx="4143600" cy="378612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10"/>
          <p:cNvGrpSpPr/>
          <p:nvPr/>
        </p:nvGrpSpPr>
        <p:grpSpPr>
          <a:xfrm>
            <a:off x="785880" y="1071720"/>
            <a:ext cx="8001000" cy="856800"/>
            <a:chOff x="785880" y="1071720"/>
            <a:chExt cx="8001000" cy="856800"/>
          </a:xfrm>
        </p:grpSpPr>
        <p:sp>
          <p:nvSpPr>
            <p:cNvPr id="177" name="Text Box 5"/>
            <p:cNvSpPr/>
            <p:nvPr/>
          </p:nvSpPr>
          <p:spPr>
            <a:xfrm>
              <a:off x="785880" y="1071720"/>
              <a:ext cx="72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mbria"/>
                </a:rPr>
                <a:t>The IMF on unemployment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pic>
          <p:nvPicPr>
            <p:cNvPr id="178" name="Picture 7" descr=""/>
            <p:cNvPicPr/>
            <p:nvPr/>
          </p:nvPicPr>
          <p:blipFill>
            <a:blip r:embed="rId4"/>
            <a:srcRect l="12659" t="0" r="1255" b="92994"/>
            <a:stretch/>
          </p:blipFill>
          <p:spPr>
            <a:xfrm>
              <a:off x="1500120" y="1643040"/>
              <a:ext cx="7286760" cy="285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8" descr="IMF.jpg"/>
          <p:cNvPicPr/>
          <p:nvPr/>
        </p:nvPicPr>
        <p:blipFill>
          <a:blip r:embed="rId1"/>
          <a:stretch/>
        </p:blipFill>
        <p:spPr>
          <a:xfrm>
            <a:off x="7072200" y="857160"/>
            <a:ext cx="2247840" cy="100008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"/>
          <p:cNvSpPr/>
          <p:nvPr/>
        </p:nvSpPr>
        <p:spPr>
          <a:xfrm>
            <a:off x="500040" y="114300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The IMF’s Chief, Dominique Strauss-Kahn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655200" y="200016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Rome 30 October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939600" y="2643120"/>
            <a:ext cx="744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re is some good news, but the crisis is not over.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re is no recovery until there is recovery of employment”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642960" y="371484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London 23 November 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891000" y="4214880"/>
            <a:ext cx="75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global economy remains in a holding pattern - getting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etter, but still highly vulnerable”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LO Home"/>
          <p:cNvPicPr/>
          <p:nvPr/>
        </p:nvPicPr>
        <p:blipFill>
          <a:blip r:embed="rId1"/>
          <a:stretch/>
        </p:blipFill>
        <p:spPr>
          <a:xfrm>
            <a:off x="155520" y="-250920"/>
            <a:ext cx="1428840" cy="5238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7"/>
          <p:cNvGrpSpPr/>
          <p:nvPr/>
        </p:nvGrpSpPr>
        <p:grpSpPr>
          <a:xfrm>
            <a:off x="571680" y="857160"/>
            <a:ext cx="3564720" cy="929880"/>
            <a:chOff x="571680" y="857160"/>
            <a:chExt cx="3564720" cy="929880"/>
          </a:xfrm>
        </p:grpSpPr>
        <p:pic>
          <p:nvPicPr>
            <p:cNvPr id="187" name="Picture 4" descr=""/>
            <p:cNvPicPr/>
            <p:nvPr/>
          </p:nvPicPr>
          <p:blipFill>
            <a:blip r:embed="rId2"/>
            <a:stretch/>
          </p:blipFill>
          <p:spPr>
            <a:xfrm>
              <a:off x="571680" y="857160"/>
              <a:ext cx="1214280" cy="9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5"/>
            <p:cNvSpPr/>
            <p:nvPr/>
          </p:nvSpPr>
          <p:spPr>
            <a:xfrm>
              <a:off x="2363040" y="1143000"/>
              <a:ext cx="177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THE ILO: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89" name="Rectangle 6"/>
          <p:cNvSpPr/>
          <p:nvPr/>
        </p:nvSpPr>
        <p:spPr>
          <a:xfrm>
            <a:off x="2286000" y="235728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INANCIAL AND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NOMIC CRISIS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DECENT WORK RESPONS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1571760" y="1357200"/>
            <a:ext cx="5408640" cy="4919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1467000" y="1000080"/>
            <a:ext cx="5663880" cy="50720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000080" y="1214280"/>
            <a:ext cx="7375680" cy="3953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8" descr="Bloomberg best markets of 09.png"/>
          <p:cNvPicPr/>
          <p:nvPr/>
        </p:nvPicPr>
        <p:blipFill>
          <a:blip r:embed="rId1"/>
          <a:stretch/>
        </p:blipFill>
        <p:spPr>
          <a:xfrm>
            <a:off x="2000160" y="1857240"/>
            <a:ext cx="4929120" cy="3616560"/>
          </a:xfrm>
          <a:prstGeom prst="rect">
            <a:avLst/>
          </a:prstGeom>
          <a:ln w="0">
            <a:noFill/>
          </a:ln>
        </p:spPr>
      </p:pic>
      <p:sp>
        <p:nvSpPr>
          <p:cNvPr id="95" name="TextBox 19"/>
          <p:cNvSpPr/>
          <p:nvPr/>
        </p:nvSpPr>
        <p:spPr>
          <a:xfrm>
            <a:off x="794520" y="785880"/>
            <a:ext cx="23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Since March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TextBox 22"/>
          <p:cNvSpPr/>
          <p:nvPr/>
        </p:nvSpPr>
        <p:spPr>
          <a:xfrm>
            <a:off x="792720" y="128592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Financial markets have recovered significantl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TextBox 23"/>
          <p:cNvSpPr/>
          <p:nvPr/>
        </p:nvSpPr>
        <p:spPr>
          <a:xfrm>
            <a:off x="960480" y="5643720"/>
            <a:ext cx="57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Upswing continued in 2</a:t>
            </a:r>
            <a:r>
              <a:rPr b="0" lang="fr-CH" sz="2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and 3rd quarters –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to Octo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766800" y="1214280"/>
            <a:ext cx="7547040" cy="4071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97"/>
          <p:cNvGrpSpPr/>
          <p:nvPr/>
        </p:nvGrpSpPr>
        <p:grpSpPr>
          <a:xfrm>
            <a:off x="378720" y="642960"/>
            <a:ext cx="8233560" cy="5378760"/>
            <a:chOff x="378720" y="642960"/>
            <a:chExt cx="8233560" cy="5378760"/>
          </a:xfrm>
        </p:grpSpPr>
        <p:sp>
          <p:nvSpPr>
            <p:cNvPr id="195" name="TextBox 1"/>
            <p:cNvSpPr/>
            <p:nvPr/>
          </p:nvSpPr>
          <p:spPr>
            <a:xfrm>
              <a:off x="378720" y="642960"/>
              <a:ext cx="823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ime-lags: Schematic comparison of stock markets, employment,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ublic revenues and public debt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grpSp>
          <p:nvGrpSpPr>
            <p:cNvPr id="196" name="Group 92"/>
            <p:cNvGrpSpPr/>
            <p:nvPr/>
          </p:nvGrpSpPr>
          <p:grpSpPr>
            <a:xfrm>
              <a:off x="499680" y="1928880"/>
              <a:ext cx="7072200" cy="4092840"/>
              <a:chOff x="499680" y="1928880"/>
              <a:chExt cx="7072200" cy="4092840"/>
            </a:xfrm>
          </p:grpSpPr>
          <p:grpSp>
            <p:nvGrpSpPr>
              <p:cNvPr id="197" name="Group 34"/>
              <p:cNvGrpSpPr/>
              <p:nvPr/>
            </p:nvGrpSpPr>
            <p:grpSpPr>
              <a:xfrm>
                <a:off x="499680" y="1928880"/>
                <a:ext cx="6786720" cy="3501000"/>
                <a:chOff x="499680" y="1928880"/>
                <a:chExt cx="6786720" cy="3501000"/>
              </a:xfrm>
            </p:grpSpPr>
            <p:sp>
              <p:nvSpPr>
                <p:cNvPr id="198" name="Straight Connector 30"/>
                <p:cNvSpPr/>
                <p:nvPr/>
              </p:nvSpPr>
              <p:spPr>
                <a:xfrm>
                  <a:off x="499680" y="1928880"/>
                  <a:ext cx="0" cy="350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99" name="Straight Connector 33"/>
                <p:cNvSpPr/>
                <p:nvPr/>
              </p:nvSpPr>
              <p:spPr>
                <a:xfrm>
                  <a:off x="499680" y="5429880"/>
                  <a:ext cx="678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sp>
            <p:nvSpPr>
              <p:cNvPr id="200" name="TextBox 35"/>
              <p:cNvSpPr/>
              <p:nvPr/>
            </p:nvSpPr>
            <p:spPr>
              <a:xfrm>
                <a:off x="499680" y="5501520"/>
                <a:ext cx="70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60360"/>
                    <a:tab algn="l" pos="806400"/>
                    <a:tab algn="l" pos="1166760"/>
                    <a:tab algn="l" pos="1528920"/>
                    <a:tab algn="l" pos="1876320"/>
                    <a:tab algn="l" pos="2238480"/>
                    <a:tab algn="l" pos="2598840"/>
                    <a:tab algn="l" pos="2959200"/>
                    <a:tab algn="l" pos="3405240"/>
                    <a:tab algn="l" pos="3765600"/>
                    <a:tab algn="l" pos="4211640"/>
                    <a:tab algn="l" pos="4572000"/>
                    <a:tab algn="l" pos="4932360"/>
                    <a:tab algn="l" pos="5294160"/>
                    <a:tab algn="l" pos="5654520"/>
                    <a:tab algn="l" pos="6004080"/>
                    <a:tab algn="l" pos="63644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Oct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Nov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Dec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Jan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Feb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Mar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Apr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May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June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Jul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Aug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Sep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Oct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Nov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Dec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Jan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Feb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Mar</a:t>
                </a:r>
                <a:endParaRPr b="0" lang="en-US" sz="1400" spc="-1" strike="noStrike">
                  <a:solidFill>
                    <a:srgbClr val="000000"/>
                  </a:solidFill>
                  <a:latin typeface="Cambri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60360"/>
                    <a:tab algn="l" pos="806400"/>
                    <a:tab algn="l" pos="1166760"/>
                    <a:tab algn="l" pos="1528920"/>
                    <a:tab algn="l" pos="1876320"/>
                    <a:tab algn="l" pos="2238480"/>
                    <a:tab algn="l" pos="2598840"/>
                    <a:tab algn="l" pos="2959200"/>
                    <a:tab algn="l" pos="3405240"/>
                    <a:tab algn="l" pos="3765600"/>
                    <a:tab algn="l" pos="4211640"/>
                    <a:tab algn="l" pos="4572000"/>
                    <a:tab algn="l" pos="4932360"/>
                    <a:tab algn="l" pos="5294160"/>
                    <a:tab algn="l" pos="5654520"/>
                    <a:tab algn="l" pos="6004080"/>
                    <a:tab algn="l" pos="63644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2008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2009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fr-CH" sz="1400" spc="-1" strike="noStrike">
                    <a:solidFill>
                      <a:srgbClr val="000000"/>
                    </a:solidFill>
                    <a:latin typeface="Calibri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01" name="Group 98"/>
          <p:cNvGrpSpPr/>
          <p:nvPr/>
        </p:nvGrpSpPr>
        <p:grpSpPr>
          <a:xfrm>
            <a:off x="642960" y="1428840"/>
            <a:ext cx="5286240" cy="3857400"/>
            <a:chOff x="642960" y="1428840"/>
            <a:chExt cx="5286240" cy="3857400"/>
          </a:xfrm>
        </p:grpSpPr>
        <p:grpSp>
          <p:nvGrpSpPr>
            <p:cNvPr id="202" name="Group 5"/>
            <p:cNvGrpSpPr/>
            <p:nvPr/>
          </p:nvGrpSpPr>
          <p:grpSpPr>
            <a:xfrm>
              <a:off x="857160" y="1428840"/>
              <a:ext cx="2063520" cy="368280"/>
              <a:chOff x="857160" y="1428840"/>
              <a:chExt cx="2063520" cy="368280"/>
            </a:xfrm>
          </p:grpSpPr>
          <p:sp>
            <p:nvSpPr>
              <p:cNvPr id="203" name="Straight Connector 3"/>
              <p:cNvSpPr/>
              <p:nvPr/>
            </p:nvSpPr>
            <p:spPr>
              <a:xfrm>
                <a:off x="857160" y="1643040"/>
                <a:ext cx="571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04" name="TextBox 4"/>
              <p:cNvSpPr/>
              <p:nvPr/>
            </p:nvSpPr>
            <p:spPr>
              <a:xfrm>
                <a:off x="1431000" y="1428840"/>
                <a:ext cx="148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1800" spc="-1" strike="noStrike">
                    <a:solidFill>
                      <a:srgbClr val="000000"/>
                    </a:solidFill>
                    <a:latin typeface="Calibri"/>
                  </a:rPr>
                  <a:t>Stock markets</a:t>
                </a: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grpSp>
          <p:nvGrpSpPr>
            <p:cNvPr id="205" name="Group 56"/>
            <p:cNvGrpSpPr/>
            <p:nvPr/>
          </p:nvGrpSpPr>
          <p:grpSpPr>
            <a:xfrm>
              <a:off x="642960" y="3000240"/>
              <a:ext cx="5286240" cy="2286000"/>
              <a:chOff x="642960" y="3000240"/>
              <a:chExt cx="5286240" cy="2286000"/>
            </a:xfrm>
          </p:grpSpPr>
          <p:sp>
            <p:nvSpPr>
              <p:cNvPr id="206" name="Straight Connector 37"/>
              <p:cNvSpPr/>
              <p:nvPr/>
            </p:nvSpPr>
            <p:spPr>
              <a:xfrm>
                <a:off x="642960" y="3000240"/>
                <a:ext cx="428400" cy="200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07" name="Straight Connector 39"/>
              <p:cNvSpPr/>
              <p:nvPr/>
            </p:nvSpPr>
            <p:spPr>
              <a:xfrm>
                <a:off x="1071360" y="5000760"/>
                <a:ext cx="185724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08" name="Straight Connector 41"/>
              <p:cNvSpPr/>
              <p:nvPr/>
            </p:nvSpPr>
            <p:spPr>
              <a:xfrm flipV="1">
                <a:off x="2928960" y="4000320"/>
                <a:ext cx="2643120" cy="128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09" name="Straight Connector 43"/>
              <p:cNvSpPr/>
              <p:nvPr/>
            </p:nvSpPr>
            <p:spPr>
              <a:xfrm>
                <a:off x="5571360" y="4000320"/>
                <a:ext cx="28548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10" name="Straight Connector 45"/>
              <p:cNvSpPr/>
              <p:nvPr/>
            </p:nvSpPr>
            <p:spPr>
              <a:xfrm flipV="1">
                <a:off x="5572080" y="3785760"/>
                <a:ext cx="35712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211" name="TextBox 46"/>
          <p:cNvSpPr/>
          <p:nvPr/>
        </p:nvSpPr>
        <p:spPr>
          <a:xfrm>
            <a:off x="5931720" y="3571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Rectangle 47"/>
          <p:cNvSpPr/>
          <p:nvPr/>
        </p:nvSpPr>
        <p:spPr>
          <a:xfrm>
            <a:off x="5857920" y="4143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Rectangle 62"/>
          <p:cNvSpPr/>
          <p:nvPr/>
        </p:nvSpPr>
        <p:spPr>
          <a:xfrm>
            <a:off x="6645960" y="457200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b0f0"/>
                </a:solidFill>
                <a:latin typeface="Cambri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14" name="Group 100"/>
          <p:cNvGrpSpPr/>
          <p:nvPr/>
        </p:nvGrpSpPr>
        <p:grpSpPr>
          <a:xfrm>
            <a:off x="642960" y="1428840"/>
            <a:ext cx="5786280" cy="3643200"/>
            <a:chOff x="642960" y="1428840"/>
            <a:chExt cx="5786280" cy="3643200"/>
          </a:xfrm>
        </p:grpSpPr>
        <p:grpSp>
          <p:nvGrpSpPr>
            <p:cNvPr id="215" name="Group 14"/>
            <p:cNvGrpSpPr/>
            <p:nvPr/>
          </p:nvGrpSpPr>
          <p:grpSpPr>
            <a:xfrm>
              <a:off x="3214440" y="1428840"/>
              <a:ext cx="2225160" cy="368280"/>
              <a:chOff x="3214440" y="1428840"/>
              <a:chExt cx="2225160" cy="368280"/>
            </a:xfrm>
          </p:grpSpPr>
          <p:sp>
            <p:nvSpPr>
              <p:cNvPr id="216" name="Straight Connector 12"/>
              <p:cNvSpPr/>
              <p:nvPr/>
            </p:nvSpPr>
            <p:spPr>
              <a:xfrm>
                <a:off x="3214440" y="1643040"/>
                <a:ext cx="642960" cy="0"/>
              </a:xfrm>
              <a:prstGeom prst="line">
                <a:avLst/>
              </a:prstGeom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17" name="TextBox 13"/>
              <p:cNvSpPr/>
              <p:nvPr/>
            </p:nvSpPr>
            <p:spPr>
              <a:xfrm>
                <a:off x="3792960" y="1428840"/>
                <a:ext cx="164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1800" spc="-1" strike="noStrike">
                    <a:solidFill>
                      <a:srgbClr val="00b050"/>
                    </a:solidFill>
                    <a:latin typeface="Calibri"/>
                  </a:rPr>
                  <a:t>Public revenues</a:t>
                </a: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grpSp>
          <p:nvGrpSpPr>
            <p:cNvPr id="218" name="Group 70"/>
            <p:cNvGrpSpPr/>
            <p:nvPr/>
          </p:nvGrpSpPr>
          <p:grpSpPr>
            <a:xfrm>
              <a:off x="642960" y="2857680"/>
              <a:ext cx="5786280" cy="2214360"/>
              <a:chOff x="642960" y="2857680"/>
              <a:chExt cx="5786280" cy="2214360"/>
            </a:xfrm>
          </p:grpSpPr>
          <p:sp>
            <p:nvSpPr>
              <p:cNvPr id="219" name="Straight Connector 64"/>
              <p:cNvSpPr/>
              <p:nvPr/>
            </p:nvSpPr>
            <p:spPr>
              <a:xfrm>
                <a:off x="642960" y="2857680"/>
                <a:ext cx="1571400" cy="0"/>
              </a:xfrm>
              <a:prstGeom prst="line">
                <a:avLst/>
              </a:prstGeom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20" name="Straight Connector 66"/>
              <p:cNvSpPr/>
              <p:nvPr/>
            </p:nvSpPr>
            <p:spPr>
              <a:xfrm>
                <a:off x="2214360" y="2857680"/>
                <a:ext cx="3429000" cy="1857240"/>
              </a:xfrm>
              <a:prstGeom prst="line">
                <a:avLst/>
              </a:prstGeom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21" name="Straight Connector 68"/>
              <p:cNvSpPr/>
              <p:nvPr/>
            </p:nvSpPr>
            <p:spPr>
              <a:xfrm>
                <a:off x="5643720" y="4714920"/>
                <a:ext cx="785520" cy="357120"/>
              </a:xfrm>
              <a:prstGeom prst="line">
                <a:avLst/>
              </a:prstGeom>
              <a:ln w="28440">
                <a:solidFill>
                  <a:srgbClr val="00b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222" name="Rectangle 69"/>
          <p:cNvSpPr/>
          <p:nvPr/>
        </p:nvSpPr>
        <p:spPr>
          <a:xfrm>
            <a:off x="6431400" y="48578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b050"/>
                </a:solidFill>
                <a:latin typeface="Cambri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23" name="Group 101"/>
          <p:cNvGrpSpPr/>
          <p:nvPr/>
        </p:nvGrpSpPr>
        <p:grpSpPr>
          <a:xfrm>
            <a:off x="714240" y="1785960"/>
            <a:ext cx="5715000" cy="3071520"/>
            <a:chOff x="714240" y="1785960"/>
            <a:chExt cx="5715000" cy="3071520"/>
          </a:xfrm>
        </p:grpSpPr>
        <p:grpSp>
          <p:nvGrpSpPr>
            <p:cNvPr id="224" name="Group 21"/>
            <p:cNvGrpSpPr/>
            <p:nvPr/>
          </p:nvGrpSpPr>
          <p:grpSpPr>
            <a:xfrm>
              <a:off x="3143160" y="1785960"/>
              <a:ext cx="1872720" cy="368280"/>
              <a:chOff x="3143160" y="1785960"/>
              <a:chExt cx="1872720" cy="368280"/>
            </a:xfrm>
          </p:grpSpPr>
          <p:sp>
            <p:nvSpPr>
              <p:cNvPr id="225" name="Straight Connector 16"/>
              <p:cNvSpPr/>
              <p:nvPr/>
            </p:nvSpPr>
            <p:spPr>
              <a:xfrm>
                <a:off x="3143160" y="2000160"/>
                <a:ext cx="6429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26" name="TextBox 17"/>
              <p:cNvSpPr/>
              <p:nvPr/>
            </p:nvSpPr>
            <p:spPr>
              <a:xfrm>
                <a:off x="3794400" y="1785960"/>
                <a:ext cx="122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1800" spc="-1" strike="noStrike">
                    <a:solidFill>
                      <a:srgbClr val="ff0000"/>
                    </a:solidFill>
                    <a:latin typeface="Calibri"/>
                  </a:rPr>
                  <a:t>Public debt</a:t>
                </a: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grpSp>
          <p:nvGrpSpPr>
            <p:cNvPr id="227" name="Group 63"/>
            <p:cNvGrpSpPr/>
            <p:nvPr/>
          </p:nvGrpSpPr>
          <p:grpSpPr>
            <a:xfrm>
              <a:off x="714240" y="2856960"/>
              <a:ext cx="5715000" cy="2000520"/>
              <a:chOff x="714240" y="2856960"/>
              <a:chExt cx="5715000" cy="2000520"/>
            </a:xfrm>
          </p:grpSpPr>
          <p:sp>
            <p:nvSpPr>
              <p:cNvPr id="228" name="Straight Connector 72"/>
              <p:cNvSpPr/>
              <p:nvPr/>
            </p:nvSpPr>
            <p:spPr>
              <a:xfrm flipV="1">
                <a:off x="714240" y="4643280"/>
                <a:ext cx="1571400" cy="214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29" name="Straight Connector 74"/>
              <p:cNvSpPr/>
              <p:nvPr/>
            </p:nvSpPr>
            <p:spPr>
              <a:xfrm flipV="1">
                <a:off x="2285640" y="3071520"/>
                <a:ext cx="3214800" cy="1571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0" name="Straight Connector 76"/>
              <p:cNvSpPr/>
              <p:nvPr/>
            </p:nvSpPr>
            <p:spPr>
              <a:xfrm flipV="1">
                <a:off x="5500800" y="2856960"/>
                <a:ext cx="571320" cy="214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1" name="Straight Connector 78"/>
              <p:cNvSpPr/>
              <p:nvPr/>
            </p:nvSpPr>
            <p:spPr>
              <a:xfrm>
                <a:off x="6072120" y="2857320"/>
                <a:ext cx="35712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232" name="Rectangle 80"/>
          <p:cNvSpPr/>
          <p:nvPr/>
        </p:nvSpPr>
        <p:spPr>
          <a:xfrm>
            <a:off x="6360120" y="292896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TextBox 81"/>
          <p:cNvSpPr/>
          <p:nvPr/>
        </p:nvSpPr>
        <p:spPr>
          <a:xfrm>
            <a:off x="860400" y="600084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G2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Rectangle 82"/>
          <p:cNvSpPr/>
          <p:nvPr/>
        </p:nvSpPr>
        <p:spPr>
          <a:xfrm>
            <a:off x="2525760" y="603108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G20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Rectangle 83"/>
          <p:cNvSpPr/>
          <p:nvPr/>
        </p:nvSpPr>
        <p:spPr>
          <a:xfrm>
            <a:off x="4883400" y="603108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mbria"/>
              </a:rPr>
              <a:t>G20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36" name="Group 91"/>
          <p:cNvGrpSpPr/>
          <p:nvPr/>
        </p:nvGrpSpPr>
        <p:grpSpPr>
          <a:xfrm>
            <a:off x="5643720" y="1285920"/>
            <a:ext cx="3500280" cy="1500120"/>
            <a:chOff x="5643720" y="1285920"/>
            <a:chExt cx="3500280" cy="1500120"/>
          </a:xfrm>
        </p:grpSpPr>
        <p:sp>
          <p:nvSpPr>
            <p:cNvPr id="237" name="TextBox 85"/>
            <p:cNvSpPr/>
            <p:nvPr/>
          </p:nvSpPr>
          <p:spPr>
            <a:xfrm>
              <a:off x="6651720" y="178596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Calibri"/>
                </a:rPr>
                <a:t>uncertainties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38" name="Explosion 1 86"/>
            <p:cNvSpPr/>
            <p:nvPr/>
          </p:nvSpPr>
          <p:spPr>
            <a:xfrm>
              <a:off x="5643720" y="1285920"/>
              <a:ext cx="3500280" cy="1500120"/>
            </a:xfrm>
            <a:prstGeom prst="irregularSeal1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39" name="Rectangle 87"/>
            <p:cNvSpPr/>
            <p:nvPr/>
          </p:nvSpPr>
          <p:spPr>
            <a:xfrm>
              <a:off x="6360120" y="1714320"/>
              <a:ext cx="29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000000"/>
                  </a:solidFill>
                  <a:latin typeface="Cambria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40" name="Rectangle 88"/>
            <p:cNvSpPr/>
            <p:nvPr/>
          </p:nvSpPr>
          <p:spPr>
            <a:xfrm>
              <a:off x="6503040" y="2071800"/>
              <a:ext cx="29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00b0f0"/>
                  </a:solidFill>
                  <a:latin typeface="Cambria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41" name="Rectangle 89"/>
            <p:cNvSpPr/>
            <p:nvPr/>
          </p:nvSpPr>
          <p:spPr>
            <a:xfrm>
              <a:off x="7503120" y="1571400"/>
              <a:ext cx="29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ff0000"/>
                  </a:solidFill>
                  <a:latin typeface="Cambria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42" name="Rectangle 90"/>
            <p:cNvSpPr/>
            <p:nvPr/>
          </p:nvSpPr>
          <p:spPr>
            <a:xfrm>
              <a:off x="7574760" y="2143080"/>
              <a:ext cx="29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000" spc="-1" strike="noStrike">
                  <a:solidFill>
                    <a:srgbClr val="00b050"/>
                  </a:solidFill>
                  <a:latin typeface="Cambria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43" name="Group 99"/>
          <p:cNvGrpSpPr/>
          <p:nvPr/>
        </p:nvGrpSpPr>
        <p:grpSpPr>
          <a:xfrm>
            <a:off x="642960" y="1785960"/>
            <a:ext cx="6116760" cy="3429000"/>
            <a:chOff x="642960" y="1785960"/>
            <a:chExt cx="6116760" cy="3429000"/>
          </a:xfrm>
        </p:grpSpPr>
        <p:grpSp>
          <p:nvGrpSpPr>
            <p:cNvPr id="244" name="Group 10"/>
            <p:cNvGrpSpPr/>
            <p:nvPr/>
          </p:nvGrpSpPr>
          <p:grpSpPr>
            <a:xfrm>
              <a:off x="857160" y="1785960"/>
              <a:ext cx="1942200" cy="368280"/>
              <a:chOff x="857160" y="1785960"/>
              <a:chExt cx="1942200" cy="368280"/>
            </a:xfrm>
          </p:grpSpPr>
          <p:sp>
            <p:nvSpPr>
              <p:cNvPr id="245" name="Straight Connector 7"/>
              <p:cNvSpPr/>
              <p:nvPr/>
            </p:nvSpPr>
            <p:spPr>
              <a:xfrm>
                <a:off x="857160" y="2000160"/>
                <a:ext cx="571320" cy="0"/>
              </a:xfrm>
              <a:prstGeom prst="line">
                <a:avLst/>
              </a:prstGeom>
              <a:ln w="284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46" name="TextBox 8"/>
              <p:cNvSpPr/>
              <p:nvPr/>
            </p:nvSpPr>
            <p:spPr>
              <a:xfrm>
                <a:off x="1434600" y="1785960"/>
                <a:ext cx="136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1800" spc="-1" strike="noStrike">
                    <a:solidFill>
                      <a:srgbClr val="00b0f0"/>
                    </a:solidFill>
                    <a:latin typeface="Calibri"/>
                  </a:rPr>
                  <a:t>Employment</a:t>
                </a: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grpSp>
          <p:nvGrpSpPr>
            <p:cNvPr id="247" name="Group 96"/>
            <p:cNvGrpSpPr/>
            <p:nvPr/>
          </p:nvGrpSpPr>
          <p:grpSpPr>
            <a:xfrm>
              <a:off x="642960" y="2928960"/>
              <a:ext cx="6116760" cy="2286000"/>
              <a:chOff x="642960" y="2928960"/>
              <a:chExt cx="6116760" cy="2286000"/>
            </a:xfrm>
          </p:grpSpPr>
          <p:sp>
            <p:nvSpPr>
              <p:cNvPr id="248" name="Straight Connector 51"/>
              <p:cNvSpPr/>
              <p:nvPr/>
            </p:nvSpPr>
            <p:spPr>
              <a:xfrm>
                <a:off x="642960" y="2928960"/>
                <a:ext cx="1643040" cy="357120"/>
              </a:xfrm>
              <a:prstGeom prst="line">
                <a:avLst/>
              </a:prstGeom>
              <a:ln w="284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49" name="Straight Connector 53"/>
              <p:cNvSpPr/>
              <p:nvPr/>
            </p:nvSpPr>
            <p:spPr>
              <a:xfrm>
                <a:off x="2286000" y="3286080"/>
                <a:ext cx="2571840" cy="1928880"/>
              </a:xfrm>
              <a:prstGeom prst="line">
                <a:avLst/>
              </a:prstGeom>
              <a:ln w="284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50" name="Straight Connector 55"/>
              <p:cNvSpPr/>
              <p:nvPr/>
            </p:nvSpPr>
            <p:spPr>
              <a:xfrm flipV="1">
                <a:off x="4857840" y="5000400"/>
                <a:ext cx="785520" cy="214200"/>
              </a:xfrm>
              <a:prstGeom prst="line">
                <a:avLst/>
              </a:prstGeom>
              <a:ln w="284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51" name="Freeform 95"/>
              <p:cNvSpPr/>
              <p:nvPr/>
            </p:nvSpPr>
            <p:spPr>
              <a:xfrm>
                <a:off x="5618880" y="4746600"/>
                <a:ext cx="1140840" cy="270720"/>
              </a:xfrm>
              <a:custGeom>
                <a:avLst/>
                <a:gdLst/>
                <a:ahLst/>
                <a:rect l="l" t="t" r="r" b="b"/>
                <a:pathLst>
                  <a:path w="1140995" h="270710">
                    <a:moveTo>
                      <a:pt x="0" y="270710"/>
                    </a:moveTo>
                    <a:cubicBezTo>
                      <a:pt x="159418" y="177465"/>
                      <a:pt x="318837" y="84220"/>
                      <a:pt x="493295" y="42110"/>
                    </a:cubicBezTo>
                    <a:cubicBezTo>
                      <a:pt x="667753" y="0"/>
                      <a:pt x="952501" y="24063"/>
                      <a:pt x="1046748" y="18047"/>
                    </a:cubicBezTo>
                    <a:cubicBezTo>
                      <a:pt x="1140995" y="12031"/>
                      <a:pt x="1054769" y="8021"/>
                      <a:pt x="1058779" y="6016"/>
                    </a:cubicBezTo>
                    <a:cubicBezTo>
                      <a:pt x="1062789" y="4011"/>
                      <a:pt x="1070811" y="6016"/>
                      <a:pt x="1070811" y="6016"/>
                    </a:cubicBezTo>
                    <a:lnTo>
                      <a:pt x="1070811" y="6016"/>
                    </a:lnTo>
                    <a:lnTo>
                      <a:pt x="1058779" y="6016"/>
                    </a:lnTo>
                  </a:path>
                </a:pathLst>
              </a:custGeom>
              <a:noFill/>
              <a:ln w="28440">
                <a:solidFill>
                  <a:srgbClr val="00b0f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</p:spTree>
  </p:cSld>
  <p:transition>
    <p:pull dir="r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5"/>
          <p:cNvSpPr/>
          <p:nvPr/>
        </p:nvSpPr>
        <p:spPr>
          <a:xfrm>
            <a:off x="599760" y="1500120"/>
            <a:ext cx="721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ubai sends markets into turmoil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3" name="Picture 6" descr="http://s.wsj.net/img/b.gif"/>
          <p:cNvPicPr/>
          <p:nvPr/>
        </p:nvPicPr>
        <p:blipFill>
          <a:blip r:embed="rId1"/>
          <a:stretch/>
        </p:blipFill>
        <p:spPr>
          <a:xfrm>
            <a:off x="63360" y="-136440"/>
            <a:ext cx="9720" cy="93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9"/>
          <p:cNvSpPr/>
          <p:nvPr/>
        </p:nvSpPr>
        <p:spPr>
          <a:xfrm>
            <a:off x="4481640" y="-18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5" name="Picture 8" descr="http://s.wsj.net/img/b.gif"/>
          <p:cNvPicPr/>
          <p:nvPr/>
        </p:nvPicPr>
        <p:blipFill>
          <a:blip r:embed="rId2"/>
          <a:stretch/>
        </p:blipFill>
        <p:spPr>
          <a:xfrm>
            <a:off x="571680" y="-280980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6"/>
          <p:cNvSpPr/>
          <p:nvPr/>
        </p:nvSpPr>
        <p:spPr>
          <a:xfrm>
            <a:off x="1660320" y="3286080"/>
            <a:ext cx="595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ubai crisis shakes markets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57" name="Group 26"/>
          <p:cNvGrpSpPr/>
          <p:nvPr/>
        </p:nvGrpSpPr>
        <p:grpSpPr>
          <a:xfrm>
            <a:off x="888840" y="2286000"/>
            <a:ext cx="6797880" cy="1102680"/>
            <a:chOff x="888840" y="2286000"/>
            <a:chExt cx="6797880" cy="1102680"/>
          </a:xfrm>
        </p:grpSpPr>
        <p:sp>
          <p:nvSpPr>
            <p:cNvPr id="258" name="TextBox 14"/>
            <p:cNvSpPr/>
            <p:nvPr/>
          </p:nvSpPr>
          <p:spPr>
            <a:xfrm>
              <a:off x="888840" y="2286000"/>
              <a:ext cx="6797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mbria"/>
                  <a:ea typeface="Times New Roman"/>
                </a:rPr>
                <a:t>THE WALL STREET JOURNAL.</a:t>
              </a:r>
              <a:endParaRPr b="0" lang="en-US" sz="4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59" name="TextBox 17"/>
            <p:cNvSpPr/>
            <p:nvPr/>
          </p:nvSpPr>
          <p:spPr>
            <a:xfrm>
              <a:off x="928800" y="2928960"/>
              <a:ext cx="472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Friday – Sunday, November 27, 2009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60" name="Group 27"/>
          <p:cNvGrpSpPr/>
          <p:nvPr/>
        </p:nvGrpSpPr>
        <p:grpSpPr>
          <a:xfrm>
            <a:off x="285840" y="4071960"/>
            <a:ext cx="8238960" cy="959760"/>
            <a:chOff x="285840" y="4071960"/>
            <a:chExt cx="8238960" cy="959760"/>
          </a:xfrm>
        </p:grpSpPr>
        <p:sp>
          <p:nvSpPr>
            <p:cNvPr id="261" name="TextBox 18"/>
            <p:cNvSpPr/>
            <p:nvPr/>
          </p:nvSpPr>
          <p:spPr>
            <a:xfrm>
              <a:off x="285840" y="4071960"/>
              <a:ext cx="823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mbria"/>
                </a:rPr>
                <a:t>LE TEMPS – Economie et Finance</a:t>
              </a:r>
              <a:endParaRPr b="0" lang="en-US" sz="40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62" name="TextBox 19"/>
            <p:cNvSpPr/>
            <p:nvPr/>
          </p:nvSpPr>
          <p:spPr>
            <a:xfrm>
              <a:off x="479880" y="4572000"/>
              <a:ext cx="34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amedi 28 novembre 2009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63" name="TextBox 20"/>
          <p:cNvSpPr/>
          <p:nvPr/>
        </p:nvSpPr>
        <p:spPr>
          <a:xfrm>
            <a:off x="1071720" y="5072040"/>
            <a:ext cx="578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ubai montre que la crise n’est pas finie”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64" name="Group 25"/>
          <p:cNvGrpSpPr/>
          <p:nvPr/>
        </p:nvGrpSpPr>
        <p:grpSpPr>
          <a:xfrm>
            <a:off x="728640" y="714240"/>
            <a:ext cx="4338360" cy="960120"/>
            <a:chOff x="728640" y="714240"/>
            <a:chExt cx="4338360" cy="960120"/>
          </a:xfrm>
        </p:grpSpPr>
        <p:sp>
          <p:nvSpPr>
            <p:cNvPr id="265" name="TextBox 4"/>
            <p:cNvSpPr/>
            <p:nvPr/>
          </p:nvSpPr>
          <p:spPr>
            <a:xfrm>
              <a:off x="728640" y="1214640"/>
              <a:ext cx="43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urope Friday November 27 2009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66" name="TextBox 24"/>
            <p:cNvSpPr/>
            <p:nvPr/>
          </p:nvSpPr>
          <p:spPr>
            <a:xfrm>
              <a:off x="766800" y="714240"/>
              <a:ext cx="426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mbria"/>
                </a:rPr>
                <a:t>FINANCIAL TIMES</a:t>
              </a:r>
              <a:endParaRPr b="0" lang="en-US" sz="4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pull dir="r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9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2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4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2352240" y="785880"/>
            <a:ext cx="461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E BIG THREATS TO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PUBLIC EDUCATION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2091600" y="2928960"/>
            <a:ext cx="44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eclining public revenu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2300760" y="4429080"/>
            <a:ext cx="35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it strategies” to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duce defici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77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77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77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1" dur="77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678600" y="857160"/>
            <a:ext cx="81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ique Strauss-Kahn, London 23 November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816840" y="3000240"/>
            <a:ext cx="55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old growth model is dead”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857160" y="3571920"/>
            <a:ext cx="79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old model under which households in the USA and elsewhere propelled the global economy with their voracious appetite for consumption, is dead – or at least on its last legs”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811080" y="492912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is shift would be helped by stronger social security systems and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igher spending on health and educatio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071720" y="1428840"/>
            <a:ext cx="72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xit too soon, and you kill the recovery. Exit too late, and you sow the seeds for the next crisis”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“Exiting too early is costlier than exiting too late”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"/>
          <p:cNvSpPr/>
          <p:nvPr/>
        </p:nvSpPr>
        <p:spPr>
          <a:xfrm>
            <a:off x="2328120" y="1000080"/>
            <a:ext cx="448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Calibri"/>
              </a:rPr>
              <a:t>PARADIGM CHANGE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430560" y="20718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1440360" y="207180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imbalanc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1435680" y="2428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equit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1435320" y="27860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ino capitalis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489960" y="37148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TextBox 8"/>
          <p:cNvSpPr/>
          <p:nvPr/>
        </p:nvSpPr>
        <p:spPr>
          <a:xfrm>
            <a:off x="1433880" y="371484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ent work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1438560" y="4071960"/>
            <a:ext cx="36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 transition to green job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TextBox 10"/>
          <p:cNvSpPr/>
          <p:nvPr/>
        </p:nvSpPr>
        <p:spPr>
          <a:xfrm>
            <a:off x="1431720" y="44290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TextBox 11"/>
          <p:cNvSpPr/>
          <p:nvPr/>
        </p:nvSpPr>
        <p:spPr>
          <a:xfrm>
            <a:off x="1441440" y="4786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and educ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TextBox 12"/>
          <p:cNvSpPr/>
          <p:nvPr/>
        </p:nvSpPr>
        <p:spPr>
          <a:xfrm>
            <a:off x="1162800" y="5643720"/>
            <a:ext cx="55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 paradigm for sustainable recovery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9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2067480" y="928800"/>
            <a:ext cx="500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 UNWANTED PARADIG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TextBox 2"/>
          <p:cNvSpPr/>
          <p:nvPr/>
        </p:nvSpPr>
        <p:spPr>
          <a:xfrm>
            <a:off x="574200" y="235728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k to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1085040" y="278604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ew cycle of massive profit-taking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89" name="Group 18"/>
          <p:cNvGrpSpPr/>
          <p:nvPr/>
        </p:nvGrpSpPr>
        <p:grpSpPr>
          <a:xfrm>
            <a:off x="928800" y="1500120"/>
            <a:ext cx="8001000" cy="459720"/>
            <a:chOff x="928800" y="1500120"/>
            <a:chExt cx="8001000" cy="459720"/>
          </a:xfrm>
        </p:grpSpPr>
        <p:sp>
          <p:nvSpPr>
            <p:cNvPr id="290" name="TextBox 4"/>
            <p:cNvSpPr/>
            <p:nvPr/>
          </p:nvSpPr>
          <p:spPr>
            <a:xfrm>
              <a:off x="1714320" y="1500120"/>
              <a:ext cx="721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onetary easing of Oct – Dec 2008 created liquidity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91" name="Right Arrow 6"/>
            <p:cNvSpPr/>
            <p:nvPr/>
          </p:nvSpPr>
          <p:spPr>
            <a:xfrm>
              <a:off x="928800" y="1714680"/>
              <a:ext cx="714240" cy="142920"/>
            </a:xfrm>
            <a:prstGeom prst="rightArrow">
              <a:avLst>
                <a:gd name="adj1" fmla="val 50000"/>
                <a:gd name="adj2" fmla="val 49975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92" name="Group 19"/>
          <p:cNvGrpSpPr/>
          <p:nvPr/>
        </p:nvGrpSpPr>
        <p:grpSpPr>
          <a:xfrm>
            <a:off x="928800" y="1928880"/>
            <a:ext cx="6318000" cy="459720"/>
            <a:chOff x="928800" y="1928880"/>
            <a:chExt cx="6318000" cy="459720"/>
          </a:xfrm>
        </p:grpSpPr>
        <p:sp>
          <p:nvSpPr>
            <p:cNvPr id="293" name="TextBox 9"/>
            <p:cNvSpPr/>
            <p:nvPr/>
          </p:nvSpPr>
          <p:spPr>
            <a:xfrm>
              <a:off x="1803600" y="1928880"/>
              <a:ext cx="54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timulus packages were financed by banks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94" name="Right Arrow 10"/>
            <p:cNvSpPr/>
            <p:nvPr/>
          </p:nvSpPr>
          <p:spPr>
            <a:xfrm>
              <a:off x="928800" y="2143440"/>
              <a:ext cx="714240" cy="142920"/>
            </a:xfrm>
            <a:prstGeom prst="rightArrow">
              <a:avLst>
                <a:gd name="adj1" fmla="val 50000"/>
                <a:gd name="adj2" fmla="val 49975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95" name="TextBox 13"/>
          <p:cNvSpPr/>
          <p:nvPr/>
        </p:nvSpPr>
        <p:spPr>
          <a:xfrm>
            <a:off x="1077840" y="328608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“Bank bonuses make a come-back”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TextBox 14"/>
          <p:cNvSpPr/>
          <p:nvPr/>
        </p:nvSpPr>
        <p:spPr>
          <a:xfrm>
            <a:off x="1109880" y="3786120"/>
            <a:ext cx="746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ll Street Journal, 14 Oct 2009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23 firms will pay $140 billion this year – back to 2007 level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TextBox 15"/>
          <p:cNvSpPr/>
          <p:nvPr/>
        </p:nvSpPr>
        <p:spPr>
          <a:xfrm>
            <a:off x="523800" y="4643280"/>
            <a:ext cx="44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 new round of speculation –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TextBox 16"/>
          <p:cNvSpPr/>
          <p:nvPr/>
        </p:nvSpPr>
        <p:spPr>
          <a:xfrm>
            <a:off x="4878000" y="4643280"/>
            <a:ext cx="43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ntil the bubble bursts agai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TextBox 17"/>
          <p:cNvSpPr/>
          <p:nvPr/>
        </p:nvSpPr>
        <p:spPr>
          <a:xfrm>
            <a:off x="532800" y="5143680"/>
            <a:ext cx="73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d this time, no more room for monetary easing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r fiscal stimulus !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1"/>
          <p:cNvSpPr/>
          <p:nvPr/>
        </p:nvSpPr>
        <p:spPr>
          <a:xfrm>
            <a:off x="2452320" y="128592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FINAL WORD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285840" y="2786040"/>
            <a:ext cx="7668000" cy="1452600"/>
            <a:chOff x="285840" y="2786040"/>
            <a:chExt cx="7668000" cy="1452600"/>
          </a:xfrm>
        </p:grpSpPr>
        <p:pic>
          <p:nvPicPr>
            <p:cNvPr id="302" name="Picture 2" descr="http://portal.unesco.org/en/TEMPLATE/v4_images/logo_en.gif"/>
            <p:cNvPicPr/>
            <p:nvPr/>
          </p:nvPicPr>
          <p:blipFill>
            <a:blip r:embed="rId1"/>
            <a:stretch/>
          </p:blipFill>
          <p:spPr>
            <a:xfrm>
              <a:off x="285840" y="2786040"/>
              <a:ext cx="3141360" cy="14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Box 3"/>
            <p:cNvSpPr/>
            <p:nvPr/>
          </p:nvSpPr>
          <p:spPr>
            <a:xfrm>
              <a:off x="3577680" y="2928600"/>
              <a:ext cx="43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EFA Global Monitoring</a:t>
              </a:r>
              <a:br>
                <a:rPr sz="3600"/>
              </a:b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Report 2009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pull dir="rd"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93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9" dur="193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0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1" dur="193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2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3" dur="193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4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946920" cy="4775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"/>
          <p:cNvPicPr/>
          <p:nvPr/>
        </p:nvPicPr>
        <p:blipFill>
          <a:blip r:embed="rId1"/>
          <a:stretch/>
        </p:blipFill>
        <p:spPr>
          <a:xfrm>
            <a:off x="1143000" y="719280"/>
            <a:ext cx="7358040" cy="4941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hart"/>
          <p:cNvPicPr/>
          <p:nvPr/>
        </p:nvPicPr>
        <p:blipFill>
          <a:blip r:embed="rId1"/>
          <a:stretch/>
        </p:blipFill>
        <p:spPr>
          <a:xfrm>
            <a:off x="3429000" y="857160"/>
            <a:ext cx="3565440" cy="28116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500040" y="171504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Mincho"/>
              </a:rPr>
              <a:t>USA:Dow Jones 2005-2009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0" name="Picture 4" descr="Chart"/>
          <p:cNvPicPr/>
          <p:nvPr/>
        </p:nvPicPr>
        <p:blipFill>
          <a:blip r:embed="rId2"/>
          <a:stretch/>
        </p:blipFill>
        <p:spPr>
          <a:xfrm>
            <a:off x="3357720" y="3643200"/>
            <a:ext cx="3565440" cy="2811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434160" y="4644000"/>
            <a:ext cx="29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3a3a"/>
                </a:solidFill>
                <a:latin typeface="Calibri"/>
                <a:ea typeface="MS Mincho"/>
              </a:rPr>
              <a:t>The German stock marke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7597800" cy="4929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454680" y="857160"/>
            <a:ext cx="60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Consumer confidence plummetted to mid-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434520" y="150012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Then began to recov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571920" y="1428840"/>
            <a:ext cx="3514680" cy="5008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876680" y="642960"/>
            <a:ext cx="48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An indicator of global trade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6" name="Picture 2" descr="10-9-09-BDI"/>
          <p:cNvPicPr/>
          <p:nvPr/>
        </p:nvPicPr>
        <p:blipFill>
          <a:blip r:embed="rId1"/>
          <a:stretch/>
        </p:blipFill>
        <p:spPr>
          <a:xfrm>
            <a:off x="785880" y="1714680"/>
            <a:ext cx="6629400" cy="4960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785880" y="142884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ltic Dry Index (BDI) 30 October 2009    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16"/>
          <p:cNvGrpSpPr/>
          <p:nvPr/>
        </p:nvGrpSpPr>
        <p:grpSpPr>
          <a:xfrm>
            <a:off x="428760" y="571680"/>
            <a:ext cx="8715240" cy="3276360"/>
            <a:chOff x="428760" y="571680"/>
            <a:chExt cx="8715240" cy="3276360"/>
          </a:xfrm>
        </p:grpSpPr>
        <p:grpSp>
          <p:nvGrpSpPr>
            <p:cNvPr id="109" name="Group 9"/>
            <p:cNvGrpSpPr/>
            <p:nvPr/>
          </p:nvGrpSpPr>
          <p:grpSpPr>
            <a:xfrm>
              <a:off x="428760" y="571680"/>
              <a:ext cx="8229600" cy="411120"/>
              <a:chOff x="428760" y="571680"/>
              <a:chExt cx="8229600" cy="411120"/>
            </a:xfrm>
          </p:grpSpPr>
          <p:sp>
            <p:nvSpPr>
              <p:cNvPr id="110" name="Rectangle 2"/>
              <p:cNvSpPr/>
              <p:nvPr/>
            </p:nvSpPr>
            <p:spPr>
              <a:xfrm>
                <a:off x="428760" y="571680"/>
                <a:ext cx="8229600" cy="41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0066ff"/>
                    </a:solidFill>
                    <a:uFillTx/>
                    <a:latin typeface="Calibri"/>
                  </a:rPr>
                  <a:t>TUAC</a:t>
                </a:r>
                <a:r>
                  <a:rPr b="0" lang="en-US" sz="1200" spc="-1" strike="noStrike" u="sng">
                    <a:solidFill>
                      <a:srgbClr val="0066ff"/>
                    </a:solidFill>
                    <a:uFillTx/>
                    <a:latin typeface="Calibri"/>
                  </a:rPr>
                  <a:t> trade union advisory committee to the </a:t>
                </a:r>
                <a:r>
                  <a:rPr b="1" lang="en-US" sz="1200" spc="-1" strike="noStrike" u="sng">
                    <a:solidFill>
                      <a:srgbClr val="0066ff"/>
                    </a:solidFill>
                    <a:uFillTx/>
                    <a:latin typeface="Calibri"/>
                  </a:rPr>
                  <a:t>OECD </a:t>
                </a:r>
                <a:r>
                  <a:rPr b="0" lang="en-US" sz="1200" spc="-1" strike="noStrike" u="sng">
                    <a:solidFill>
                      <a:srgbClr val="0066ff"/>
                    </a:solidFill>
                    <a:uFillTx/>
                    <a:latin typeface="Wingdings"/>
                    <a:ea typeface="Wingdings"/>
                  </a:rPr>
                  <a:t></a:t>
                </a:r>
                <a:r>
                  <a:rPr b="1" lang="en-US" sz="1200" spc="-1" strike="noStrike" u="sng">
                    <a:solidFill>
                      <a:srgbClr val="0066ff"/>
                    </a:solidFill>
                    <a:uFillTx/>
                    <a:latin typeface="Calibri"/>
                  </a:rPr>
                  <a:t>CSC</a:t>
                </a:r>
                <a:r>
                  <a:rPr b="0" lang="en-US" sz="1200" spc="-1" strike="noStrike" u="sng">
                    <a:solidFill>
                      <a:srgbClr val="0066ff"/>
                    </a:solidFill>
                    <a:uFillTx/>
                    <a:latin typeface="Calibri"/>
                  </a:rPr>
                  <a:t> commission syndicale consultative auprès de l’</a:t>
                </a:r>
                <a:r>
                  <a:rPr b="1" lang="en-US" sz="1200" spc="-1" strike="noStrike" u="sng">
                    <a:solidFill>
                      <a:srgbClr val="0066ff"/>
                    </a:solidFill>
                    <a:uFillTx/>
                    <a:latin typeface="Calibri"/>
                  </a:rPr>
                  <a:t>OCDE</a:t>
                </a:r>
                <a:endParaRPr b="0" lang="en-US" sz="12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pic>
            <p:nvPicPr>
              <p:cNvPr id="111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714240" y="571680"/>
                <a:ext cx="360360" cy="365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2" name="logo" descr="Google"/>
            <p:cNvPicPr/>
            <p:nvPr/>
          </p:nvPicPr>
          <p:blipFill>
            <a:blip r:embed="rId2"/>
            <a:stretch/>
          </p:blipFill>
          <p:spPr>
            <a:xfrm>
              <a:off x="3214800" y="857160"/>
              <a:ext cx="25905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428760" y="1571760"/>
              <a:ext cx="8064360" cy="16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</a:rPr>
                <a:t>1.190.000</a:t>
              </a: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 hits for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</a:rPr>
                <a:t>"recession is over“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pic>
          <p:nvPicPr>
            <p:cNvPr id="114" name="Picture 10" descr="Illustration by Mark Alan Stamaty. Click image to expand.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743880" y="2143080"/>
              <a:ext cx="2400120" cy="170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Group 14"/>
          <p:cNvGrpSpPr/>
          <p:nvPr/>
        </p:nvGrpSpPr>
        <p:grpSpPr>
          <a:xfrm>
            <a:off x="428760" y="2000160"/>
            <a:ext cx="4572000" cy="1039680"/>
            <a:chOff x="428760" y="2000160"/>
            <a:chExt cx="4572000" cy="1039680"/>
          </a:xfrm>
        </p:grpSpPr>
        <p:pic>
          <p:nvPicPr>
            <p:cNvPr id="116" name="Picture 6" descr="Newsweek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71320" y="2000160"/>
              <a:ext cx="1295280" cy="19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Rectangle 11"/>
            <p:cNvSpPr/>
            <p:nvPr/>
          </p:nvSpPr>
          <p:spPr>
            <a:xfrm>
              <a:off x="428760" y="2214360"/>
              <a:ext cx="457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</a:rPr>
                <a:t>Jul 25, 2009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</a:rPr>
                <a:t>The Recession Is Over 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500040" y="3071880"/>
            <a:ext cx="6643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ambria"/>
              </a:rPr>
              <a:t>Slat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he Recession Is Over!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What America's best economic forecaster is saying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mbria"/>
              </a:rPr>
              <a:t>By Daniel Gross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Posted Tuesday, July 14, 2009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19" name="Group 15"/>
          <p:cNvGrpSpPr/>
          <p:nvPr/>
        </p:nvGrpSpPr>
        <p:grpSpPr>
          <a:xfrm>
            <a:off x="428760" y="4429080"/>
            <a:ext cx="7143480" cy="1965600"/>
            <a:chOff x="428760" y="4429080"/>
            <a:chExt cx="7143480" cy="1965600"/>
          </a:xfrm>
        </p:grpSpPr>
        <p:pic>
          <p:nvPicPr>
            <p:cNvPr id="120" name="Picture 9" descr="mw-logo-240x70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71320" y="4429080"/>
              <a:ext cx="201600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13"/>
            <p:cNvSpPr/>
            <p:nvPr/>
          </p:nvSpPr>
          <p:spPr>
            <a:xfrm>
              <a:off x="428760" y="4929120"/>
              <a:ext cx="7143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mbria"/>
                </a:rPr>
                <a:t>Sept. 15, 2009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</a:rPr>
                <a:t>Bernanke declares 'recession is very likely over'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</a:rPr>
                <a:t>Unfortunately, unemployment will come down slowly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pull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6913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57120" y="92880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OECD composite leading indicators (CLI) show signals of recovery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;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ambria"/>
              </a:rPr>
              <a:t>Paris, 6 November 2009</a:t>
            </a:r>
            <a:r>
              <a:rPr b="0" lang="de-DE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642960" y="1357200"/>
            <a:ext cx="8501040" cy="2735280"/>
            <a:chOff x="642960" y="1357200"/>
            <a:chExt cx="8501040" cy="2735280"/>
          </a:xfrm>
        </p:grpSpPr>
        <p:pic>
          <p:nvPicPr>
            <p:cNvPr id="125" name="Picture 6" descr=""/>
            <p:cNvPicPr/>
            <p:nvPr/>
          </p:nvPicPr>
          <p:blipFill>
            <a:blip r:embed="rId1"/>
            <a:stretch/>
          </p:blipFill>
          <p:spPr>
            <a:xfrm>
              <a:off x="4616640" y="1357200"/>
              <a:ext cx="452736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/>
            <p:cNvSpPr/>
            <p:nvPr/>
          </p:nvSpPr>
          <p:spPr>
            <a:xfrm>
              <a:off x="642960" y="1785600"/>
              <a:ext cx="3857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Cambria"/>
                  <a:ea typeface="ＭＳ Ｐゴシック"/>
                </a:rPr>
                <a:t>CLI for the OECD area increased by 1.3 point in September 2009 and was 3.4 points higher than in September 2008.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"/>
                  <a:ea typeface="ＭＳ Ｐゴシック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TUAC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 trade union advisory committee to the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OECD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Wingdings"/>
                <a:ea typeface="Wingdings"/>
              </a:rPr>
              <a:t>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CSC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 commission syndicale consultative auprès de l’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OCDE</a:t>
            </a:r>
            <a:endParaRPr b="0" lang="en-US" sz="1200" spc="-1" strike="noStrike">
              <a:solidFill>
                <a:srgbClr val="c0504d"/>
              </a:solidFill>
              <a:latin typeface="Calibri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2"/>
          <a:stretch/>
        </p:blipFill>
        <p:spPr>
          <a:xfrm>
            <a:off x="571680" y="500040"/>
            <a:ext cx="360360" cy="36504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10"/>
          <p:cNvGrpSpPr/>
          <p:nvPr/>
        </p:nvGrpSpPr>
        <p:grpSpPr>
          <a:xfrm>
            <a:off x="500040" y="3071880"/>
            <a:ext cx="4714920" cy="3610080"/>
            <a:chOff x="500040" y="3071880"/>
            <a:chExt cx="4714920" cy="3610080"/>
          </a:xfrm>
        </p:grpSpPr>
        <p:pic>
          <p:nvPicPr>
            <p:cNvPr id="130" name="Picture 7" descr=""/>
            <p:cNvPicPr/>
            <p:nvPr/>
          </p:nvPicPr>
          <p:blipFill>
            <a:blip r:embed="rId3"/>
            <a:stretch/>
          </p:blipFill>
          <p:spPr>
            <a:xfrm>
              <a:off x="500040" y="4000680"/>
              <a:ext cx="4419720" cy="26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Rectangle 8"/>
            <p:cNvSpPr/>
            <p:nvPr/>
          </p:nvSpPr>
          <p:spPr>
            <a:xfrm>
              <a:off x="642600" y="3071880"/>
              <a:ext cx="457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ambria"/>
                </a:rPr>
                <a:t>CLI for China increased by 1.6 point – </a:t>
              </a:r>
              <a:br>
                <a:rPr sz="1800"/>
              </a:br>
              <a:r>
                <a:rPr b="1" lang="en-US" sz="1800" spc="-1" strike="noStrike">
                  <a:solidFill>
                    <a:srgbClr val="ff3300"/>
                  </a:solidFill>
                  <a:latin typeface="Cambria"/>
                </a:rPr>
                <a:t>7.0 points higher than a year ago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pull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428760" y="714240"/>
            <a:ext cx="79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But unemployment increased steeply in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Industrialized countri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3" name="Picture 2" descr="http://www.tuac.org/en/member/e-docs/00/00/05/CC/media_UNEM.png"/>
          <p:cNvPicPr/>
          <p:nvPr/>
        </p:nvPicPr>
        <p:blipFill>
          <a:blip r:embed="rId1"/>
          <a:stretch/>
        </p:blipFill>
        <p:spPr>
          <a:xfrm>
            <a:off x="2428920" y="1785960"/>
            <a:ext cx="3905280" cy="3048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459720" y="4929120"/>
            <a:ext cx="776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OECD does not project much improvement in </a:t>
            </a:r>
            <a:br>
              <a:rPr sz="3200"/>
            </a:b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employment in 2010 - 201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5" name="Picture 2" descr="Organisation for Economic Co-operation and Development"/>
          <p:cNvPicPr/>
          <p:nvPr/>
        </p:nvPicPr>
        <p:blipFill>
          <a:blip r:embed="rId2"/>
          <a:stretch/>
        </p:blipFill>
        <p:spPr>
          <a:xfrm>
            <a:off x="7215120" y="714240"/>
            <a:ext cx="1809720" cy="666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2920" y="50004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TUAC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 trade union advisory committee to the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OECD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Wingdings"/>
                <a:ea typeface="Wingdings"/>
              </a:rPr>
              <a:t>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CSC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 commission syndicale consultative auprès de l’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Calibri"/>
              </a:rPr>
              <a:t>OCDE</a:t>
            </a:r>
            <a:endParaRPr b="0" lang="en-US" sz="1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6913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360360" cy="3650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14200" y="1214280"/>
            <a:ext cx="85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Increasing unemployment despite “financial” recovery – the US as a  case in poin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357120" y="2214720"/>
            <a:ext cx="4383000" cy="264636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395280" y="5300640"/>
            <a:ext cx="6624720" cy="1090440"/>
            <a:chOff x="395280" y="5300640"/>
            <a:chExt cx="6624720" cy="1090440"/>
          </a:xfrm>
        </p:grpSpPr>
        <p:sp>
          <p:nvSpPr>
            <p:cNvPr id="142" name="Text Box 7"/>
            <p:cNvSpPr/>
            <p:nvPr/>
          </p:nvSpPr>
          <p:spPr>
            <a:xfrm>
              <a:off x="395280" y="5300640"/>
              <a:ext cx="662472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ambria"/>
                </a:rPr>
                <a:t>What recovery?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mbria"/>
                </a:rPr>
                <a:t>Unemployment Rate Rises to 10.2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"/>
                </a:rPr>
                <a:t>%,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mbria"/>
                </a:rPr>
                <a:t>Offering Little Reassurance to Job Seekers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pic>
          <p:nvPicPr>
            <p:cNvPr id="143" name="Picture 9" descr="New York Times"/>
            <p:cNvPicPr/>
            <p:nvPr/>
          </p:nvPicPr>
          <p:blipFill>
            <a:blip r:embed="rId3"/>
            <a:stretch/>
          </p:blipFill>
          <p:spPr>
            <a:xfrm>
              <a:off x="2843280" y="5445000"/>
              <a:ext cx="14475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10"/>
          <p:cNvGrpSpPr/>
          <p:nvPr/>
        </p:nvGrpSpPr>
        <p:grpSpPr>
          <a:xfrm>
            <a:off x="5048280" y="2424240"/>
            <a:ext cx="4095720" cy="2952720"/>
            <a:chOff x="5048280" y="2424240"/>
            <a:chExt cx="4095720" cy="2952720"/>
          </a:xfrm>
        </p:grpSpPr>
        <p:pic>
          <p:nvPicPr>
            <p:cNvPr id="145" name="Picture 10" descr=""/>
            <p:cNvPicPr/>
            <p:nvPr/>
          </p:nvPicPr>
          <p:blipFill>
            <a:blip r:embed="rId4"/>
            <a:stretch/>
          </p:blipFill>
          <p:spPr>
            <a:xfrm>
              <a:off x="5048280" y="3000240"/>
              <a:ext cx="409572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1"/>
            <p:cNvSpPr/>
            <p:nvPr/>
          </p:nvSpPr>
          <p:spPr>
            <a:xfrm>
              <a:off x="5292720" y="2424240"/>
              <a:ext cx="367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Cambria"/>
                </a:rPr>
                <a:t>Unemployment rate, seasonally adjusted, Oct. 2007 – October 2009</a:t>
              </a:r>
              <a:endParaRPr b="0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pull dir="r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2:45:33Z</dcterms:created>
  <dc:creator>Bob Harris</dc:creator>
  <dc:description/>
  <dc:language>en-US</dc:language>
  <cp:lastModifiedBy>haroltor</cp:lastModifiedBy>
  <dcterms:modified xsi:type="dcterms:W3CDTF">2009-12-03T08:50:24Z</dcterms:modified>
  <cp:revision>128</cp:revision>
  <dc:subject/>
  <dc:title>Responding to the Global Economic Crisis by Bob Harr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AvailableOnWebsite">
    <vt:lpwstr>1</vt:lpwstr>
  </property>
  <property fmtid="{D5CDD505-2E9C-101B-9397-08002B2CF9AE}" pid="5" name="Categories">
    <vt:lpwstr/>
  </property>
  <property fmtid="{D5CDD505-2E9C-101B-9397-08002B2CF9AE}" pid="6" name="ContentType">
    <vt:lpwstr>EI Document</vt:lpwstr>
  </property>
  <property fmtid="{D5CDD505-2E9C-101B-9397-08002B2CF9AE}" pid="7" name="Date">
    <vt:lpwstr>2009-12-02T00:00:00Z</vt:lpwstr>
  </property>
  <property fmtid="{D5CDD505-2E9C-101B-9397-08002B2CF9AE}" pid="8" name="DocumentLanguage">
    <vt:lpwstr>English</vt:lpwstr>
  </property>
  <property fmtid="{D5CDD505-2E9C-101B-9397-08002B2CF9AE}" pid="9" name="DocumentSource">
    <vt:lpwstr>1</vt:lpwstr>
  </property>
  <property fmtid="{D5CDD505-2E9C-101B-9397-08002B2CF9AE}" pid="10" name="EIOrgan">
    <vt:lpwstr/>
  </property>
  <property fmtid="{D5CDD505-2E9C-101B-9397-08002B2CF9AE}" pid="11" name="EIRegion">
    <vt:lpwstr>6;#Worldwide</vt:lpwstr>
  </property>
  <property fmtid="{D5CDD505-2E9C-101B-9397-08002B2CF9AE}" pid="12" name="EITopic">
    <vt:lpwstr>17;#Policy Development</vt:lpwstr>
  </property>
  <property fmtid="{D5CDD505-2E9C-101B-9397-08002B2CF9AE}" pid="13" name="EIUnit">
    <vt:lpwstr>8;#Research</vt:lpwstr>
  </property>
  <property fmtid="{D5CDD505-2E9C-101B-9397-08002B2CF9AE}" pid="14" name="Keywords">
    <vt:lpwstr/>
  </property>
  <property fmtid="{D5CDD505-2E9C-101B-9397-08002B2CF9AE}" pid="15" name="Slides">
    <vt:lpwstr>30</vt:lpwstr>
  </property>
  <property fmtid="{D5CDD505-2E9C-101B-9397-08002B2CF9AE}" pid="16" name="Subject">
    <vt:lpwstr/>
  </property>
  <property fmtid="{D5CDD505-2E9C-101B-9397-08002B2CF9AE}" pid="17" name="_Author">
    <vt:lpwstr>Bob Harris</vt:lpwstr>
  </property>
  <property fmtid="{D5CDD505-2E9C-101B-9397-08002B2CF9AE}" pid="18" name="_Category">
    <vt:lpwstr/>
  </property>
  <property fmtid="{D5CDD505-2E9C-101B-9397-08002B2CF9AE}" pid="19" name="_Comments">
    <vt:lpwstr/>
  </property>
</Properties>
</file>