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7BFC-8394-4E37-A32F-E98A73FD9E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4192-19D5-4C9E-AFCC-9A264817B5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4A2-60C1-4B90-9622-8AB0A9B1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87D-F69D-4FBC-90B8-1162E87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CFE-A1F7-4760-96EC-F90C5CFD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395-AC35-471C-AA7A-45B5BB8D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0C79-2CC9-4AFF-A7F1-DDD7B0B4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B46-F9FB-4DB5-9FD5-966E28FB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E890-CC73-4ACD-B073-3765021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FD1A-A885-4962-8E57-8F811F1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068D-7786-4F21-919A-96CE10C9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EEB-6554-4BDA-9D76-E77E9785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4C69-07B7-407D-95ED-2F833F0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9C5-0BBD-4BD0-8FA2-E16D564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35C2-7D58-41C8-A5D0-7C0E643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DCB8-F10D-494C-A301-AFAAD01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34DE-A7E7-4948-92CE-7BEA78A8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8C4D-E0B0-4415-AEC0-8E74F274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8B35-9046-4543-A670-3FBE1CD9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BE75-F4E4-477E-BF3E-E37FCFBF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F798-8FFD-482E-B217-B83FB9FE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ED3C-DFCA-4D80-A240-009E9D2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575F-DAAE-4D8E-AA6E-B62B6E14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204A-2F1E-4B0F-912D-3A40433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E3F-375B-4F69-AEA3-1837786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DE25-0C78-479F-B95F-36B552E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6D0D-AB76-400F-96D1-F62A2E1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6573-259A-47F1-B73E-6E56172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E623-1FE6-4187-94A1-5A69F46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2BB0-F122-490A-B0C9-C26F72B9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7CCC-BC28-4F7F-B4AB-20F2D9A4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4D0E-9B06-4F01-86A8-5ECC0D7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71A9-7DF1-4604-9A5C-EF4A9A12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3CEE-96D3-4EBD-95E5-AC958C81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38AB-9BF2-441C-8909-BF554DB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246-2CFA-454C-AA4C-13B1913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CFFA-3C20-4768-BCCB-EFAE5DF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A724-262A-4F57-9CF8-CD9C8FA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3D9-9735-42F7-A813-1DDD7D6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EFF1-3864-43E9-BBC8-8A9271C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2F25-E697-44D1-BBE1-3423777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F6DE-4225-40BE-8B37-698D976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D72C-F94D-4362-B352-5CC86C7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C3CE-738C-4F06-B6E8-3361AD0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9E0E-EBF5-40F6-A607-CE614FFB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1A2A-A718-4D31-810E-4E4C7484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CDB-BF96-455C-98AE-50C244D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3121-58A1-4614-A812-9916E98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949A-DDC2-4E6B-94EE-D00D19D3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9CFE-76ED-4C29-A7D1-52CB6BE7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B970-189D-470E-89DB-EA2CA6F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C7FC-4E85-4D75-AB89-5587A137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9764-7F64-4639-8630-48173A5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99BF-9622-4845-842B-B1A25B6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4DCE-4A03-42F6-A98D-24DE598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B2E3-1160-4FE8-8154-EC99040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5D64-4735-455C-818C-3A150C01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D69-9D99-4778-BEE0-14CB804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893F-9715-4DC5-B22E-F10EA474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B749-55A4-4A48-884C-08EC033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3096-187D-49A8-8952-BDC20A3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CB90-5C6A-4E6D-9C5A-37E33E0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3CBA-6998-406E-B32E-96E9C489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13A3-C231-481F-86A4-A4DA233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40CD-A8B7-484C-897E-493674E8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F488-D472-41DA-A29B-3CB4B45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84C9-E8FC-4611-B31D-4DDD915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74494-CF11-4A75-9364-0D66177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6F7-5926-4C4B-B5B6-F29D933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0F41-0702-46E4-8723-ECEFDBEB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1BE8-3E00-48C6-965F-3567FF76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8371-E66E-4C6E-9BA3-AF1F45D1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A85-0C57-4947-B361-EDDB07F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6AA-E2AF-4EF3-B644-6F0A1E3E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165-F540-4941-9C9A-B5B33086E02D}" type="datetime"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B7E-1EBB-444E-8A0B-1F26B67602DD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95F-4053-450A-9E5C-6E03ACD28BD9}" type="datetime"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22E-2410-414B-9E1D-2BB6DCD11ADD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B9D-6678-49A5-A6B9-B4B862C35787}" type="datetime"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089-18A3-4971-99A6-714C6BB6212E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71C-0C1A-4704-B8E8-26745D93A00C}" type="datetime"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12D1-EC7F-4979-81DE-EF738DADA60C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85A-06FF-4411-9FBC-44680D024B58}" type="datetime"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D3C-1B33-43E2-A251-C97D3881664A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647-3930-4B3E-AB7F-D50C46B3BC5F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200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aluation and Learn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GRI Indonesia </a:t>
            </a: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62120" y="5013000"/>
            <a:ext cx="7554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4A55-536E-44F8-A123-C550B0A768E5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Impact of the evaluation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4000" y="1988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external evaluation facilitated better cooperation and mutual understanding between all the parties enabling immediate improvements in the programme design, resource persons and materials of the project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raining of new resource persons and 17 activities under the revised design has been completed in a very short time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9C6-CD77-401E-AA3E-10DCAB9231B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Lessons learn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4000" y="2204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External evaluation is challenging and mutual understanding among the partners is vital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Evaluation should not be of the organisation but of the programme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All parties including the external evaluator should be involved from the beginning of the evaluation including in the design of the evaluation process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The evaluator should have good understanding of national context culture and language.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The evaluation findings should be shared widely among all partners and their constituencies to maximize the impact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A97-D7E0-442B-94C8-9ABF9D0CFA91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Lessons learn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0920" y="206028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external evaluations are helpful in developing new appropriate strategies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y are to be held periodically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 am of the view that such evaluation will be beneficial to all DC programmes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398-215F-46F2-A2FC-264C2E85A88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BC50-6B51-4F80-820B-50E858753D42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Content Placeholder 4" descr="http://www.lonelyplanet.com/maps/asia/indonesia/map_of_indonesia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7"/>
          <p:cNvSpPr/>
          <p:nvPr/>
        </p:nvSpPr>
        <p:spPr>
          <a:xfrm>
            <a:off x="533520" y="609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9 mill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b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village, school and educa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895480" y="990720"/>
            <a:ext cx="457200" cy="380880"/>
          </a:xfrm>
          <a:prstGeom prst="downArrow">
            <a:avLst>
              <a:gd name="adj1" fmla="val 50000"/>
              <a:gd name="adj2" fmla="val 35134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4572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8,139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 Branch Boar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 leaders and average members per sub-board 27.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2666880" y="2133720"/>
            <a:ext cx="457200" cy="304560"/>
          </a:xfrm>
          <a:prstGeom prst="downArrow">
            <a:avLst>
              <a:gd name="adj1" fmla="val 50000"/>
              <a:gd name="adj2" fmla="val 35134"/>
            </a:avLst>
          </a:prstGeom>
          <a:solidFill>
            <a:srgbClr val="0070c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45720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,288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Boar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 elected out of 15 leaders and average members per Branch 4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1752480" y="5410080"/>
            <a:ext cx="457200" cy="304920"/>
          </a:xfrm>
          <a:prstGeom prst="downArrow">
            <a:avLst>
              <a:gd name="adj1" fmla="val 50000"/>
              <a:gd name="adj2" fmla="val 35134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2057400" y="4267080"/>
            <a:ext cx="457200" cy="381240"/>
          </a:xfrm>
          <a:prstGeom prst="downArrow">
            <a:avLst>
              <a:gd name="adj1" fmla="val 50000"/>
              <a:gd name="adj2" fmla="val 35134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2438280" y="3124080"/>
            <a:ext cx="457200" cy="304920"/>
          </a:xfrm>
          <a:prstGeom prst="downArrow">
            <a:avLst>
              <a:gd name="adj1" fmla="val 50000"/>
              <a:gd name="adj2" fmla="val 35134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533520" y="4648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ncial Boar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 elected out of 19 leaders and average membership per province 57,5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533520" y="3505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ct Boar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 elected out of 17 leaders and average members per district 4,6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533520" y="57913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ional Boar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 elected out of 25 leaders and 1.9 million memb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Content Placeholder 17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24800"/>
          </a:xfrm>
          <a:prstGeom prst="rect">
            <a:avLst/>
          </a:prstGeom>
          <a:ln w="0">
            <a:noFill/>
          </a:ln>
        </p:spPr>
      </p:pic>
      <p:cxnSp>
        <p:nvCxnSpPr>
          <p:cNvPr id="285" name="Straight Arrow Connector 19"/>
          <p:cNvCxnSpPr/>
          <p:nvPr/>
        </p:nvCxnSpPr>
        <p:spPr>
          <a:xfrm flipH="1">
            <a:off x="914040" y="990360"/>
            <a:ext cx="2160" cy="152460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lg" type="stealth" w="lg"/>
          </a:ln>
        </p:spPr>
      </p:cxnSp>
      <p:cxnSp>
        <p:nvCxnSpPr>
          <p:cNvPr id="286" name="Straight Arrow Connector 20"/>
          <p:cNvCxnSpPr/>
          <p:nvPr/>
        </p:nvCxnSpPr>
        <p:spPr>
          <a:xfrm flipV="1">
            <a:off x="2514600" y="456480"/>
            <a:ext cx="2835720" cy="108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87" name="Straight Arrow Connector 21"/>
          <p:cNvCxnSpPr/>
          <p:nvPr/>
        </p:nvCxnSpPr>
        <p:spPr>
          <a:xfrm>
            <a:off x="2514600" y="685800"/>
            <a:ext cx="838800" cy="38160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88" name="Straight Arrow Connector 22"/>
          <p:cNvCxnSpPr/>
          <p:nvPr/>
        </p:nvCxnSpPr>
        <p:spPr>
          <a:xfrm flipV="1">
            <a:off x="4419720" y="685440"/>
            <a:ext cx="838800" cy="38160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89" name="Straight Arrow Connector 29"/>
          <p:cNvCxnSpPr/>
          <p:nvPr/>
        </p:nvCxnSpPr>
        <p:spPr>
          <a:xfrm flipH="1">
            <a:off x="7313400" y="839880"/>
            <a:ext cx="3600" cy="83880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0" name="Straight Arrow Connector 32"/>
          <p:cNvCxnSpPr/>
          <p:nvPr/>
        </p:nvCxnSpPr>
        <p:spPr>
          <a:xfrm flipH="1">
            <a:off x="7162560" y="2514600"/>
            <a:ext cx="2160" cy="53424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1" name="Straight Arrow Connector 35"/>
          <p:cNvCxnSpPr/>
          <p:nvPr/>
        </p:nvCxnSpPr>
        <p:spPr>
          <a:xfrm flipH="1">
            <a:off x="1294560" y="3276360"/>
            <a:ext cx="2520" cy="53388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2" name="Straight Arrow Connector 38"/>
          <p:cNvCxnSpPr/>
          <p:nvPr/>
        </p:nvCxnSpPr>
        <p:spPr>
          <a:xfrm flipH="1">
            <a:off x="3733200" y="2438280"/>
            <a:ext cx="1554840" cy="45792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3" name="Straight Arrow Connector 41"/>
          <p:cNvCxnSpPr/>
          <p:nvPr/>
        </p:nvCxnSpPr>
        <p:spPr>
          <a:xfrm flipH="1">
            <a:off x="1371240" y="4343400"/>
            <a:ext cx="2160" cy="45792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4" name="Straight Arrow Connector 43"/>
          <p:cNvCxnSpPr/>
          <p:nvPr/>
        </p:nvCxnSpPr>
        <p:spPr>
          <a:xfrm flipH="1">
            <a:off x="6933960" y="3962160"/>
            <a:ext cx="2160" cy="53388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5" name="Straight Arrow Connector 44"/>
          <p:cNvCxnSpPr/>
          <p:nvPr/>
        </p:nvCxnSpPr>
        <p:spPr>
          <a:xfrm flipH="1">
            <a:off x="1447560" y="5715000"/>
            <a:ext cx="2160" cy="36576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6" name="Straight Arrow Connector 57"/>
          <p:cNvCxnSpPr/>
          <p:nvPr/>
        </p:nvCxnSpPr>
        <p:spPr>
          <a:xfrm flipH="1">
            <a:off x="1785600" y="1773000"/>
            <a:ext cx="1518480" cy="71892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7" name="Straight Arrow Connector 61"/>
          <p:cNvCxnSpPr/>
          <p:nvPr/>
        </p:nvCxnSpPr>
        <p:spPr>
          <a:xfrm flipV="1">
            <a:off x="3200400" y="3657240"/>
            <a:ext cx="1829520" cy="38160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H="1">
            <a:off x="2544480" y="4800600"/>
            <a:ext cx="2805840" cy="457920"/>
          </a:xfrm>
          <a:prstGeom prst="straightConnector1">
            <a:avLst/>
          </a:prstGeom>
          <a:ln w="50760">
            <a:solidFill>
              <a:srgbClr val="ad0101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561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62626"/>
                </a:solidFill>
                <a:latin typeface="Arial"/>
                <a:ea typeface="Arial"/>
              </a:rPr>
              <a:t>Background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981000"/>
            <a:ext cx="7401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03030"/>
                </a:solidFill>
                <a:latin typeface="Arial"/>
                <a:ea typeface="Arial"/>
              </a:rPr>
              <a:t>After the fall of Suharto in 1998, PGRI resolved to establish itself as an independent professional teachers’ trade union organisation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On the PGRI’s request, AEU, JTU, Lararforbundet, NEA and UEN formed an EI consortium and started to support the PGRI’s effort from 2000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03030"/>
                </a:solidFill>
                <a:latin typeface="Arial"/>
                <a:ea typeface="Arial"/>
              </a:rPr>
              <a:t>The partnership has run over 400 activities providing training to over 13,500 officials and ordinary members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03030"/>
                </a:solidFill>
                <a:latin typeface="Arial"/>
                <a:ea typeface="Arial"/>
              </a:rPr>
              <a:t>The programme was annually evaluated and planned and was expanded to more and more provinces for more than a decade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03030"/>
                </a:solidFill>
                <a:latin typeface="Arial"/>
                <a:ea typeface="Arial"/>
              </a:rPr>
              <a:t>There was a need to authenticate the reports and information obtained during the internal evaluations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51C-E80F-4E12-B266-1882B06D0CF9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External Evaluation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99640" y="191628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EI and Consortium partners in consultation with the PGRI decided to undertake an independent external evaluation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Prof. Michele Ford of the Sydney University was nominated as the lead consultant for the evaluation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purpose of the evaluation was to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Assess the results of the project in terms of organisational development and how sustainable the results are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Identify any unintended effects and results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Make recommendations for operational planning for future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82CD-B733-4C0F-A027-A2148FBCB16F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561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  <a:ea typeface="Arial"/>
              </a:rPr>
              <a:t>Evaluation Process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26560" y="1557360"/>
            <a:ext cx="74012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  <a:ea typeface="Arial"/>
              </a:rPr>
              <a:t>The evaluator was required to collect first hand information from 3 independently selected provinces through personal interviews at all levels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  <a:ea typeface="Arial"/>
              </a:rPr>
              <a:t>Three target areas for evaluation were selected based on the PGRI recommendations to be the most effective, the medium and the least effective. 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  <a:ea typeface="Arial"/>
              </a:rPr>
              <a:t>After necessary assessment the evaluator submitted findings to all partners in a feed-back seminar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7" name="Slide Number Placeholder 2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F2C-CEAE-4AF8-980C-D744D80EDCE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Respons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99640" y="227628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  <a:ea typeface="Arial"/>
              </a:rPr>
              <a:t>Among the six recommendations, the PGRI did not accept one recommendation that suggested elimination of branch committees which are barrier to good communication between the grass-root and the district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047-D966-4C24-9598-73CFBF478F5B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Findings - recommendations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4000" y="234900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report attributed many successes in the organisational development of the PGRI to the consortium project but questioned relevance, effectiveness and sustainability of the programme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 was recommended to improve programme format, methodology, resource persons and materials for the activitie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 was recommended that the PGRI leadership renew their commitment to change and build internal education and training capacity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E491-0C71-431F-A585-ECFA2669DC0A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01:00:01Z</dcterms:created>
  <dc:creator>mford</dc:creator>
  <dc:description/>
  <dc:language>en-US</dc:language>
  <cp:lastModifiedBy>claudcarr</cp:lastModifiedBy>
  <cp:lastPrinted>2013-11-15T08:32:30Z</cp:lastPrinted>
  <dcterms:modified xsi:type="dcterms:W3CDTF">2013-11-28T10:51:17Z</dcterms:modified>
  <cp:revision>68</cp:revision>
  <dc:subject/>
  <dc:title>External Evaluation   Support for PGRI in its efforts to develop as an independent trade un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vailableOnWebsite">
    <vt:lpwstr>1</vt:lpwstr>
  </property>
  <property fmtid="{D5CDD505-2E9C-101B-9397-08002B2CF9AE}" pid="3" name="DocumentLanguage">
    <vt:lpwstr>English</vt:lpwstr>
  </property>
  <property fmtid="{D5CDD505-2E9C-101B-9397-08002B2CF9AE}" pid="4" name="DocumentSource">
    <vt:lpwstr>0</vt:lpwstr>
  </property>
  <property fmtid="{D5CDD505-2E9C-101B-9397-08002B2CF9AE}" pid="5" name="EIEvent">
    <vt:lpwstr/>
  </property>
  <property fmtid="{D5CDD505-2E9C-101B-9397-08002B2CF9AE}" pid="6" name="EIGroup">
    <vt:lpwstr/>
  </property>
  <property fmtid="{D5CDD505-2E9C-101B-9397-08002B2CF9AE}" pid="7" name="EIRegion1">
    <vt:lpwstr/>
  </property>
  <property fmtid="{D5CDD505-2E9C-101B-9397-08002B2CF9AE}" pid="8" name="EITermbase">
    <vt:lpwstr/>
  </property>
  <property fmtid="{D5CDD505-2E9C-101B-9397-08002B2CF9AE}" pid="9" name="EITermbaseTaxHTField0">
    <vt:lpwstr/>
  </property>
  <property fmtid="{D5CDD505-2E9C-101B-9397-08002B2CF9AE}" pid="10" name="EITopic1">
    <vt:lpwstr/>
  </property>
  <property fmtid="{D5CDD505-2E9C-101B-9397-08002B2CF9AE}" pid="11" name="EIUnit1">
    <vt:lpwstr/>
  </property>
  <property fmtid="{D5CDD505-2E9C-101B-9397-08002B2CF9AE}" pid="12" name="TaxCatchAll">
    <vt:lpwstr/>
  </property>
  <property fmtid="{D5CDD505-2E9C-101B-9397-08002B2CF9AE}" pid="13" name="hd0be951f11940a08013d67eec6505c8">
    <vt:lpwstr/>
  </property>
  <property fmtid="{D5CDD505-2E9C-101B-9397-08002B2CF9AE}" pid="14" name="i64256cf79b641ea809ba8b9a8069568">
    <vt:lpwstr/>
  </property>
  <property fmtid="{D5CDD505-2E9C-101B-9397-08002B2CF9AE}" pid="15" name="kd7281ab553349538e0242a0ee89a9e1">
    <vt:lpwstr/>
  </property>
  <property fmtid="{D5CDD505-2E9C-101B-9397-08002B2CF9AE}" pid="16" name="l360261a294540c48d9b0fdee2fb1d22">
    <vt:lpwstr/>
  </property>
  <property fmtid="{D5CDD505-2E9C-101B-9397-08002B2CF9AE}" pid="17" name="o79ce48fd8d44e5eaac3fd0fc82a2951">
    <vt:lpwstr/>
  </property>
</Properties>
</file>