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7.png" ContentType="image/png"/>
  <Override PartName="/ppt/media/image4.png" ContentType="image/png"/>
  <Override PartName="/ppt/media/image12.wmf" ContentType="image/x-wmf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11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4.jpeg" ContentType="image/jpeg"/>
  <Override PartName="/ppt/media/image15.wmf" ContentType="image/x-wmf"/>
  <Override PartName="/ppt/media/image7.png" ContentType="image/png"/>
  <Override PartName="/ppt/media/image34.jpeg" ContentType="image/jpeg"/>
  <Override PartName="/ppt/media/image36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AC67-2418-462A-8D63-D32BD973D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196D-B44D-4F9E-B949-155B2081D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ANCIAL/ECONOMIC CRISIS AND EDUCATION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ANCIAL/ECONOMIC CRISIS AND EDUCATION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ANCIAL/ECONOMIC CRISIS AND EDUCATION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BC0-5ABC-41A6-96F0-0A90B4AB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7E5-B921-489C-8BB5-2A077A52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856-07E7-4C31-8645-C9B6C3D4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717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717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36D-BE0A-405C-86D4-979C6CAE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9D35-06C7-4660-9CBB-234EAC26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6CF-9A84-4C1C-9A7B-8E9971C2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6B4-2298-4D60-99A6-643143BA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D09-549F-43C0-B339-DDF4E0A4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856800"/>
            <a:ext cx="82580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FC4-CF21-4F71-BC76-300CFC44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56C-6DAB-4F97-BBED-F760604E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0AB-C267-4893-9DBD-1E642830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8A2-91DB-4D65-A0BF-271B2324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_Crisis2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856800"/>
            <a:ext cx="8258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9bbb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2560" y="6708240"/>
            <a:ext cx="2133720" cy="1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56920" y="6714720"/>
            <a:ext cx="400068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714720"/>
            <a:ext cx="87660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17F3-F24E-484A-80D0-78D2D6BBAB1D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1628640" y="1413000"/>
            <a:ext cx="627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58ed5"/>
                </a:solidFill>
                <a:latin typeface="Cambria"/>
              </a:rPr>
              <a:t>CANADIAN TEACHERS FEDERATION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779200" y="2276640"/>
            <a:ext cx="39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58ed5"/>
                </a:solidFill>
                <a:latin typeface="Cambria"/>
              </a:rPr>
              <a:t>PRESIDENT’S FORU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757960" y="2852640"/>
            <a:ext cx="401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58ed5"/>
                </a:solidFill>
                <a:latin typeface="Cambria"/>
              </a:rPr>
              <a:t>Edmonton, 12-13 July 2010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254320" y="3933720"/>
            <a:ext cx="502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58ed5"/>
                </a:solidFill>
                <a:latin typeface="Cambria"/>
              </a:rPr>
              <a:t>FORCES FOR CHANGE: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58ed5"/>
                </a:solidFill>
                <a:latin typeface="Cambria"/>
              </a:rPr>
              <a:t>EDUCATION FINANC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214800" y="5716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mbria"/>
              </a:rPr>
              <a:t>CASINO CAPITALIS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6408000" y="107172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mbria"/>
              </a:rPr>
              <a:t>HEDGE FUND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344520" y="107172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mbria"/>
              </a:rPr>
              <a:t>PRIVATE EQUITY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2904840" y="1071720"/>
            <a:ext cx="294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mbria"/>
              </a:rPr>
              <a:t>STRUCTURED FINANCIA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mbria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143680" y="4286160"/>
            <a:ext cx="390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mbria"/>
              </a:rPr>
              <a:t>house extensions; car; holiday; college fees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70" name="Group 52"/>
          <p:cNvGrpSpPr/>
          <p:nvPr/>
        </p:nvGrpSpPr>
        <p:grpSpPr>
          <a:xfrm>
            <a:off x="1928880" y="1785960"/>
            <a:ext cx="4571640" cy="1561320"/>
            <a:chOff x="1928880" y="1785960"/>
            <a:chExt cx="4571640" cy="1561320"/>
          </a:xfrm>
        </p:grpSpPr>
        <p:sp>
          <p:nvSpPr>
            <p:cNvPr id="171" name="TextBox 6"/>
            <p:cNvSpPr/>
            <p:nvPr/>
          </p:nvSpPr>
          <p:spPr>
            <a:xfrm>
              <a:off x="3772440" y="2643480"/>
              <a:ext cx="138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OFFSHORE 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HAVENS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cxnSp>
          <p:nvCxnSpPr>
            <p:cNvPr id="172" name="Straight Arrow Connector 22"/>
            <p:cNvCxnSpPr/>
            <p:nvPr/>
          </p:nvCxnSpPr>
          <p:spPr>
            <a:xfrm>
              <a:off x="1928880" y="1785960"/>
              <a:ext cx="1929600" cy="858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Straight Arrow Connector 24"/>
            <p:cNvCxnSpPr/>
            <p:nvPr/>
          </p:nvCxnSpPr>
          <p:spPr>
            <a:xfrm flipH="1">
              <a:off x="4428000" y="2072160"/>
              <a:ext cx="2160" cy="500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Straight Arrow Connector 26"/>
            <p:cNvCxnSpPr/>
            <p:nvPr/>
          </p:nvCxnSpPr>
          <p:spPr>
            <a:xfrm flipH="1">
              <a:off x="5000040" y="1785960"/>
              <a:ext cx="1500840" cy="858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5" name="Group 39"/>
          <p:cNvGrpSpPr/>
          <p:nvPr/>
        </p:nvGrpSpPr>
        <p:grpSpPr>
          <a:xfrm>
            <a:off x="428760" y="3929040"/>
            <a:ext cx="714240" cy="642960"/>
            <a:chOff x="428760" y="3929040"/>
            <a:chExt cx="714240" cy="642960"/>
          </a:xfrm>
        </p:grpSpPr>
        <p:grpSp>
          <p:nvGrpSpPr>
            <p:cNvPr id="176" name="Rectangle 27"/>
            <p:cNvGrpSpPr/>
            <p:nvPr/>
          </p:nvGrpSpPr>
          <p:grpSpPr>
            <a:xfrm>
              <a:off x="428760" y="3929040"/>
              <a:ext cx="714240" cy="642960"/>
              <a:chOff x="428760" y="3929040"/>
              <a:chExt cx="714240" cy="642960"/>
            </a:xfrm>
          </p:grpSpPr>
          <p:pic>
            <p:nvPicPr>
              <p:cNvPr id="177" name="Rectangle 27" descr=""/>
              <p:cNvPicPr/>
              <p:nvPr/>
            </p:nvPicPr>
            <p:blipFill>
              <a:blip r:embed="rId1"/>
              <a:stretch/>
            </p:blipFill>
            <p:spPr>
              <a:xfrm>
                <a:off x="428760" y="3929040"/>
                <a:ext cx="71424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447840" y="3943440"/>
                <a:ext cx="68076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sp>
          <p:nvSpPr>
            <p:cNvPr id="179" name="TextBox 15"/>
            <p:cNvSpPr/>
            <p:nvPr/>
          </p:nvSpPr>
          <p:spPr>
            <a:xfrm>
              <a:off x="429120" y="4011480"/>
              <a:ext cx="68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PPPs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180" name="Group 56"/>
          <p:cNvGrpSpPr/>
          <p:nvPr/>
        </p:nvGrpSpPr>
        <p:grpSpPr>
          <a:xfrm>
            <a:off x="1214280" y="3214800"/>
            <a:ext cx="3251520" cy="785880"/>
            <a:chOff x="1214280" y="3214800"/>
            <a:chExt cx="3251520" cy="785880"/>
          </a:xfrm>
        </p:grpSpPr>
        <p:sp>
          <p:nvSpPr>
            <p:cNvPr id="181" name="TextBox 16"/>
            <p:cNvSpPr/>
            <p:nvPr/>
          </p:nvSpPr>
          <p:spPr>
            <a:xfrm>
              <a:off x="1481040" y="3214800"/>
              <a:ext cx="298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000000"/>
                  </a:solidFill>
                  <a:latin typeface="Cambria"/>
                </a:rPr>
                <a:t>Corporate bonds replace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000000"/>
                  </a:solidFill>
                  <a:latin typeface="Cambria"/>
                </a:rPr>
                <a:t>Governments bonds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cxnSp>
          <p:nvCxnSpPr>
            <p:cNvPr id="182" name="Straight Arrow Connector 30"/>
            <p:cNvCxnSpPr>
              <a:endCxn id="181" idx="1"/>
            </p:cNvCxnSpPr>
            <p:nvPr/>
          </p:nvCxnSpPr>
          <p:spPr>
            <a:xfrm flipV="1">
              <a:off x="1214280" y="3568320"/>
              <a:ext cx="357840" cy="432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3" name="Group 57"/>
          <p:cNvGrpSpPr/>
          <p:nvPr/>
        </p:nvGrpSpPr>
        <p:grpSpPr>
          <a:xfrm>
            <a:off x="1161000" y="3859200"/>
            <a:ext cx="3356640" cy="1183320"/>
            <a:chOff x="1161000" y="3859200"/>
            <a:chExt cx="3356640" cy="1183320"/>
          </a:xfrm>
        </p:grpSpPr>
        <p:sp>
          <p:nvSpPr>
            <p:cNvPr id="184" name="TextBox 18"/>
            <p:cNvSpPr/>
            <p:nvPr/>
          </p:nvSpPr>
          <p:spPr>
            <a:xfrm>
              <a:off x="1161000" y="4643640"/>
              <a:ext cx="335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Often funded by private equity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cxnSp>
          <p:nvCxnSpPr>
            <p:cNvPr id="185" name="Straight Arrow Connector 32"/>
            <p:cNvCxnSpPr/>
            <p:nvPr/>
          </p:nvCxnSpPr>
          <p:spPr>
            <a:xfrm flipH="1">
              <a:off x="1927800" y="3859200"/>
              <a:ext cx="2160" cy="7862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6" name="Group 58"/>
          <p:cNvGrpSpPr/>
          <p:nvPr/>
        </p:nvGrpSpPr>
        <p:grpSpPr>
          <a:xfrm>
            <a:off x="867960" y="5001840"/>
            <a:ext cx="3849120" cy="612360"/>
            <a:chOff x="867960" y="5001840"/>
            <a:chExt cx="3849120" cy="612360"/>
          </a:xfrm>
        </p:grpSpPr>
        <p:sp>
          <p:nvSpPr>
            <p:cNvPr id="187" name="TextBox 19"/>
            <p:cNvSpPr/>
            <p:nvPr/>
          </p:nvSpPr>
          <p:spPr>
            <a:xfrm>
              <a:off x="867960" y="5215320"/>
              <a:ext cx="384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for which a major source of finance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cxnSp>
          <p:nvCxnSpPr>
            <p:cNvPr id="188" name="Straight Arrow Connector 36"/>
            <p:cNvCxnSpPr/>
            <p:nvPr/>
          </p:nvCxnSpPr>
          <p:spPr>
            <a:xfrm flipH="1">
              <a:off x="2570760" y="5001840"/>
              <a:ext cx="2160" cy="286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9" name="Group 62"/>
          <p:cNvGrpSpPr/>
          <p:nvPr/>
        </p:nvGrpSpPr>
        <p:grpSpPr>
          <a:xfrm>
            <a:off x="1999800" y="3929040"/>
            <a:ext cx="2929320" cy="785880"/>
            <a:chOff x="1999800" y="3929040"/>
            <a:chExt cx="2929320" cy="785880"/>
          </a:xfrm>
        </p:grpSpPr>
        <p:cxnSp>
          <p:nvCxnSpPr>
            <p:cNvPr id="190" name="Straight Arrow Connector 34"/>
            <p:cNvCxnSpPr/>
            <p:nvPr/>
          </p:nvCxnSpPr>
          <p:spPr>
            <a:xfrm flipV="1">
              <a:off x="1999800" y="4142520"/>
              <a:ext cx="572040" cy="14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91" name="Group 40"/>
            <p:cNvGrpSpPr/>
            <p:nvPr/>
          </p:nvGrpSpPr>
          <p:grpSpPr>
            <a:xfrm>
              <a:off x="2428560" y="3929040"/>
              <a:ext cx="2500560" cy="785880"/>
              <a:chOff x="2428560" y="3929040"/>
              <a:chExt cx="2500560" cy="785880"/>
            </a:xfrm>
          </p:grpSpPr>
          <p:sp>
            <p:nvSpPr>
              <p:cNvPr id="192" name="TextBox 17"/>
              <p:cNvSpPr/>
              <p:nvPr/>
            </p:nvSpPr>
            <p:spPr>
              <a:xfrm>
                <a:off x="2554920" y="4071960"/>
                <a:ext cx="192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2000" spc="-1" strike="noStrike">
                    <a:solidFill>
                      <a:srgbClr val="000000"/>
                    </a:solidFill>
                    <a:latin typeface="Cambria"/>
                  </a:rPr>
                  <a:t>MORE BONUSES</a:t>
                </a:r>
                <a:endParaRPr b="0" lang="en-US" sz="20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93" name="Cloud 35"/>
              <p:cNvSpPr/>
              <p:nvPr/>
            </p:nvSpPr>
            <p:spPr>
              <a:xfrm>
                <a:off x="2428560" y="3929040"/>
                <a:ext cx="2500560" cy="785880"/>
              </a:xfrm>
              <a:custGeom>
                <a:avLst/>
                <a:gdLst>
                  <a:gd name="textAreaLeft" fmla="*/ 344520 w 2500560"/>
                  <a:gd name="textAreaRight" fmla="*/ 1978200 w 2500560"/>
                  <a:gd name="textAreaTop" fmla="*/ 118440 h 785880"/>
                  <a:gd name="textAreaBottom" fmla="*/ 630720 h 78588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194" name="Group 43"/>
          <p:cNvGrpSpPr/>
          <p:nvPr/>
        </p:nvGrpSpPr>
        <p:grpSpPr>
          <a:xfrm>
            <a:off x="642960" y="2214720"/>
            <a:ext cx="3000240" cy="1071360"/>
            <a:chOff x="642960" y="2214720"/>
            <a:chExt cx="3000240" cy="1071360"/>
          </a:xfrm>
        </p:grpSpPr>
        <p:sp>
          <p:nvSpPr>
            <p:cNvPr id="195" name="TextBox 7"/>
            <p:cNvSpPr/>
            <p:nvPr/>
          </p:nvSpPr>
          <p:spPr>
            <a:xfrm>
              <a:off x="1062000" y="2500200"/>
              <a:ext cx="201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HUGE BONUSES !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96" name="Explosion 1 41"/>
            <p:cNvSpPr/>
            <p:nvPr/>
          </p:nvSpPr>
          <p:spPr>
            <a:xfrm>
              <a:off x="642960" y="2214720"/>
              <a:ext cx="3000240" cy="1071360"/>
            </a:xfrm>
            <a:prstGeom prst="irregularSeal1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197" name="Group 44"/>
          <p:cNvGrpSpPr/>
          <p:nvPr/>
        </p:nvGrpSpPr>
        <p:grpSpPr>
          <a:xfrm>
            <a:off x="5643720" y="2357280"/>
            <a:ext cx="3286080" cy="1000440"/>
            <a:chOff x="5643720" y="2357280"/>
            <a:chExt cx="3286080" cy="1000440"/>
          </a:xfrm>
        </p:grpSpPr>
        <p:sp>
          <p:nvSpPr>
            <p:cNvPr id="198" name="TextBox 8"/>
            <p:cNvSpPr/>
            <p:nvPr/>
          </p:nvSpPr>
          <p:spPr>
            <a:xfrm>
              <a:off x="6135120" y="2643120"/>
              <a:ext cx="221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MINIMIZE TAXES !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99" name="Explosion 1 42"/>
            <p:cNvSpPr/>
            <p:nvPr/>
          </p:nvSpPr>
          <p:spPr>
            <a:xfrm>
              <a:off x="5643720" y="2357280"/>
              <a:ext cx="3286080" cy="1000440"/>
            </a:xfrm>
            <a:prstGeom prst="irregularSeal1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00" name="Group 51"/>
          <p:cNvGrpSpPr/>
          <p:nvPr/>
        </p:nvGrpSpPr>
        <p:grpSpPr>
          <a:xfrm>
            <a:off x="5715000" y="4786200"/>
            <a:ext cx="2928960" cy="785880"/>
            <a:chOff x="5715000" y="4786200"/>
            <a:chExt cx="2928960" cy="785880"/>
          </a:xfrm>
        </p:grpSpPr>
        <p:sp>
          <p:nvSpPr>
            <p:cNvPr id="201" name="TextBox 49"/>
            <p:cNvSpPr/>
            <p:nvPr/>
          </p:nvSpPr>
          <p:spPr>
            <a:xfrm>
              <a:off x="6056640" y="4925520"/>
              <a:ext cx="225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Cambria"/>
                </a:rPr>
                <a:t>MORE COMMISSIONS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02" name="Cloud 50"/>
            <p:cNvSpPr/>
            <p:nvPr/>
          </p:nvSpPr>
          <p:spPr>
            <a:xfrm>
              <a:off x="5715000" y="4786200"/>
              <a:ext cx="2928960" cy="785880"/>
            </a:xfrm>
            <a:custGeom>
              <a:avLst/>
              <a:gdLst>
                <a:gd name="textAreaLeft" fmla="*/ 403560 w 2928960"/>
                <a:gd name="textAreaRight" fmla="*/ 2316960 w 2928960"/>
                <a:gd name="textAreaTop" fmla="*/ 118440 h 785880"/>
                <a:gd name="textAreaBottom" fmla="*/ 630720 h 78588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03" name="TextBox 53"/>
          <p:cNvSpPr/>
          <p:nvPr/>
        </p:nvSpPr>
        <p:spPr>
          <a:xfrm>
            <a:off x="5100840" y="3429000"/>
            <a:ext cx="41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ambria"/>
              </a:rPr>
              <a:t>PROPERTY</a:t>
            </a: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Cambria"/>
              </a:rPr>
              <a:t>SUB-PRIME MORTGAGE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Rectangle 45"/>
          <p:cNvSpPr/>
          <p:nvPr/>
        </p:nvSpPr>
        <p:spPr>
          <a:xfrm>
            <a:off x="428760" y="135720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Unlisted on stock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market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Rectangle 46"/>
          <p:cNvSpPr/>
          <p:nvPr/>
        </p:nvSpPr>
        <p:spPr>
          <a:xfrm>
            <a:off x="3162960" y="1714680"/>
            <a:ext cx="23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Off bank balance sheet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Rectangle 47"/>
          <p:cNvSpPr/>
          <p:nvPr/>
        </p:nvSpPr>
        <p:spPr>
          <a:xfrm>
            <a:off x="6429240" y="1428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Escape banking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Regulation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Rectangle 48"/>
          <p:cNvSpPr/>
          <p:nvPr/>
        </p:nvSpPr>
        <p:spPr>
          <a:xfrm>
            <a:off x="5072040" y="37148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Buy a house (110% mortgage)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Rectangle 55"/>
          <p:cNvSpPr/>
          <p:nvPr/>
        </p:nvSpPr>
        <p:spPr>
          <a:xfrm>
            <a:off x="5085360" y="4000680"/>
            <a:ext cx="31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Raise your mortgage to finance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09" name="Group 61"/>
          <p:cNvGrpSpPr/>
          <p:nvPr/>
        </p:nvGrpSpPr>
        <p:grpSpPr>
          <a:xfrm>
            <a:off x="1608120" y="5573520"/>
            <a:ext cx="1974600" cy="998640"/>
            <a:chOff x="1608120" y="5573520"/>
            <a:chExt cx="1974600" cy="998640"/>
          </a:xfrm>
        </p:grpSpPr>
        <p:grpSp>
          <p:nvGrpSpPr>
            <p:cNvPr id="210" name="Group 38"/>
            <p:cNvGrpSpPr/>
            <p:nvPr/>
          </p:nvGrpSpPr>
          <p:grpSpPr>
            <a:xfrm>
              <a:off x="1608120" y="5929920"/>
              <a:ext cx="1974600" cy="642240"/>
              <a:chOff x="1608120" y="5929920"/>
              <a:chExt cx="1974600" cy="642240"/>
            </a:xfrm>
          </p:grpSpPr>
          <p:grpSp>
            <p:nvGrpSpPr>
              <p:cNvPr id="211" name="Rectangle 37"/>
              <p:cNvGrpSpPr/>
              <p:nvPr/>
            </p:nvGrpSpPr>
            <p:grpSpPr>
              <a:xfrm>
                <a:off x="1643040" y="5929920"/>
                <a:ext cx="1928880" cy="642240"/>
                <a:chOff x="1643040" y="5929920"/>
                <a:chExt cx="1928880" cy="642240"/>
              </a:xfrm>
            </p:grpSpPr>
            <p:pic>
              <p:nvPicPr>
                <p:cNvPr id="212" name="Rectangle 3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43040" y="5929920"/>
                  <a:ext cx="1928880" cy="64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" name=""/>
                <p:cNvSpPr/>
                <p:nvPr/>
              </p:nvSpPr>
              <p:spPr>
                <a:xfrm>
                  <a:off x="1652040" y="5939640"/>
                  <a:ext cx="190728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sp>
            <p:nvSpPr>
              <p:cNvPr id="214" name="TextBox 20"/>
              <p:cNvSpPr/>
              <p:nvPr/>
            </p:nvSpPr>
            <p:spPr>
              <a:xfrm>
                <a:off x="1608120" y="6077520"/>
                <a:ext cx="197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2000" spc="-1" strike="noStrike">
                    <a:solidFill>
                      <a:srgbClr val="000000"/>
                    </a:solidFill>
                    <a:latin typeface="Cambria"/>
                  </a:rPr>
                  <a:t>PENSION FUNDS</a:t>
                </a:r>
                <a:endParaRPr b="0" lang="en-US" sz="20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cxnSp>
          <p:nvCxnSpPr>
            <p:cNvPr id="215" name="Straight Arrow Connector 60"/>
            <p:cNvCxnSpPr/>
            <p:nvPr/>
          </p:nvCxnSpPr>
          <p:spPr>
            <a:xfrm flipH="1">
              <a:off x="2570760" y="5573520"/>
              <a:ext cx="2160" cy="286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pull dir="r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2"/>
          <p:cNvSpPr/>
          <p:nvPr/>
        </p:nvSpPr>
        <p:spPr>
          <a:xfrm>
            <a:off x="2941200" y="57168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mbria"/>
              </a:rPr>
              <a:t>GLOBAL IMBALANC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214200" y="114300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The United States </a:t>
            </a:r>
            <a:r>
              <a:rPr b="0" lang="fr-CH" sz="18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fr-CH" sz="1800" spc="-1" strike="noStrike" baseline="30000">
                <a:solidFill>
                  <a:srgbClr val="ff0000"/>
                </a:solidFill>
                <a:latin typeface="Cambria"/>
              </a:rPr>
              <a:t>o</a:t>
            </a:r>
            <a:r>
              <a:rPr b="0" lang="fr-CH" sz="1800" spc="-1" strike="noStrike">
                <a:solidFill>
                  <a:srgbClr val="ff0000"/>
                </a:solidFill>
                <a:latin typeface="Cambria"/>
              </a:rPr>
              <a:t> 1 econom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214200" y="15001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mbria"/>
              </a:rPr>
              <a:t>From balanced budget (Clinton)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5560560" y="128592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Coming out of « the lost decade 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214200" y="278604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EU/Euro zone </a:t>
            </a:r>
            <a:r>
              <a:rPr b="0" lang="fr-CH" sz="18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fr-CH" sz="1800" spc="-1" strike="noStrike" baseline="30000">
                <a:solidFill>
                  <a:srgbClr val="ff0000"/>
                </a:solidFill>
                <a:latin typeface="Cambria"/>
              </a:rPr>
              <a:t>o</a:t>
            </a:r>
            <a:r>
              <a:rPr b="0" lang="fr-CH" sz="1800" spc="-1" strike="noStrike">
                <a:solidFill>
                  <a:srgbClr val="ff0000"/>
                </a:solidFill>
                <a:latin typeface="Cambria"/>
              </a:rPr>
              <a:t> 3 econom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363960" y="3143160"/>
            <a:ext cx="182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Growth slowing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5562360" y="450072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Oil/gas produc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5210640" y="278604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Emerging economi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TextBox 19"/>
          <p:cNvSpPr/>
          <p:nvPr/>
        </p:nvSpPr>
        <p:spPr>
          <a:xfrm>
            <a:off x="282600" y="400068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Developing countri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25" name="Group 22"/>
          <p:cNvGrpSpPr/>
          <p:nvPr/>
        </p:nvGrpSpPr>
        <p:grpSpPr>
          <a:xfrm>
            <a:off x="4071960" y="5500800"/>
            <a:ext cx="2428920" cy="1000080"/>
            <a:chOff x="4071960" y="5500800"/>
            <a:chExt cx="2428920" cy="1000080"/>
          </a:xfrm>
        </p:grpSpPr>
        <p:sp>
          <p:nvSpPr>
            <p:cNvPr id="226" name="TextBox 20"/>
            <p:cNvSpPr/>
            <p:nvPr/>
          </p:nvSpPr>
          <p:spPr>
            <a:xfrm>
              <a:off x="4352040" y="5626800"/>
              <a:ext cx="17503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ff0000"/>
                  </a:solidFill>
                  <a:latin typeface="Cambria"/>
                </a:rPr>
                <a:t>Exchange rates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Cambria"/>
                </a:rPr>
                <a:t>USD, Euro, Yuan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27" name="Cloud 21"/>
            <p:cNvSpPr/>
            <p:nvPr/>
          </p:nvSpPr>
          <p:spPr>
            <a:xfrm>
              <a:off x="4071960" y="5500800"/>
              <a:ext cx="2428920" cy="1000080"/>
            </a:xfrm>
            <a:custGeom>
              <a:avLst/>
              <a:gdLst>
                <a:gd name="textAreaLeft" fmla="*/ 334800 w 2428920"/>
                <a:gd name="textAreaRight" fmla="*/ 1921680 w 2428920"/>
                <a:gd name="textAreaTop" fmla="*/ 150840 h 1000080"/>
                <a:gd name="textAreaBottom" fmla="*/ 802800 h 100008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noFill/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28" name="TextBox 4"/>
          <p:cNvSpPr/>
          <p:nvPr/>
        </p:nvSpPr>
        <p:spPr>
          <a:xfrm>
            <a:off x="5786280" y="92880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Japan </a:t>
            </a:r>
            <a:r>
              <a:rPr b="0" lang="fr-CH" sz="18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fr-CH" sz="1800" spc="-1" strike="noStrike" baseline="30000">
                <a:solidFill>
                  <a:srgbClr val="ff0000"/>
                </a:solidFill>
                <a:latin typeface="Cambria"/>
              </a:rPr>
              <a:t>o</a:t>
            </a:r>
            <a:r>
              <a:rPr b="0" lang="fr-CH" sz="1800" spc="-1" strike="noStrike">
                <a:solidFill>
                  <a:srgbClr val="ff0000"/>
                </a:solidFill>
                <a:latin typeface="Cambria"/>
              </a:rPr>
              <a:t> 2 econom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29" name="Group 76"/>
          <p:cNvGrpSpPr/>
          <p:nvPr/>
        </p:nvGrpSpPr>
        <p:grpSpPr>
          <a:xfrm>
            <a:off x="5214960" y="4214880"/>
            <a:ext cx="652320" cy="357120"/>
            <a:chOff x="5214960" y="4214880"/>
            <a:chExt cx="652320" cy="357120"/>
          </a:xfrm>
        </p:grpSpPr>
        <p:sp>
          <p:nvSpPr>
            <p:cNvPr id="230" name="Rounded Rectangle 45"/>
            <p:cNvSpPr/>
            <p:nvPr/>
          </p:nvSpPr>
          <p:spPr>
            <a:xfrm>
              <a:off x="5214960" y="4214880"/>
              <a:ext cx="644040" cy="357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31" name="TextBox 16"/>
            <p:cNvSpPr/>
            <p:nvPr/>
          </p:nvSpPr>
          <p:spPr>
            <a:xfrm>
              <a:off x="5232240" y="4214880"/>
              <a:ext cx="6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600" spc="-1" strike="noStrike">
                  <a:solidFill>
                    <a:srgbClr val="000000"/>
                  </a:solidFill>
                  <a:latin typeface="Cambria"/>
                </a:rPr>
                <a:t>SWFs</a:t>
              </a:r>
              <a:endParaRPr b="0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32" name="TextBox 54"/>
          <p:cNvSpPr/>
          <p:nvPr/>
        </p:nvSpPr>
        <p:spPr>
          <a:xfrm>
            <a:off x="214200" y="1857240"/>
            <a:ext cx="514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mbria"/>
              </a:rPr>
              <a:t>To record public deficits (Bush: 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taxcuts and Iraq war)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Rectangle 60"/>
          <p:cNvSpPr/>
          <p:nvPr/>
        </p:nvSpPr>
        <p:spPr>
          <a:xfrm>
            <a:off x="354960" y="3429000"/>
            <a:ext cx="24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Higher unemploymen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Rectangle 62"/>
          <p:cNvSpPr/>
          <p:nvPr/>
        </p:nvSpPr>
        <p:spPr>
          <a:xfrm>
            <a:off x="5572080" y="478620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Russia, Gulf States, Nigeria,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Venezuela, Norwa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35" name="Group 58"/>
          <p:cNvGrpSpPr/>
          <p:nvPr/>
        </p:nvGrpSpPr>
        <p:grpSpPr>
          <a:xfrm>
            <a:off x="285840" y="5786280"/>
            <a:ext cx="2786040" cy="337320"/>
            <a:chOff x="285840" y="5786280"/>
            <a:chExt cx="2786040" cy="337320"/>
          </a:xfrm>
        </p:grpSpPr>
        <p:sp>
          <p:nvSpPr>
            <p:cNvPr id="236" name="TextBox 71"/>
            <p:cNvSpPr/>
            <p:nvPr/>
          </p:nvSpPr>
          <p:spPr>
            <a:xfrm>
              <a:off x="285840" y="5786280"/>
              <a:ext cx="2786040" cy="337320"/>
            </a:xfrm>
            <a:prstGeom prst="rect">
              <a:avLst/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= Financial flows</a:t>
              </a:r>
              <a:endParaRPr b="0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cxnSp>
          <p:nvCxnSpPr>
            <p:cNvPr id="237" name="Straight Arrow Connector 75"/>
            <p:cNvCxnSpPr/>
            <p:nvPr/>
          </p:nvCxnSpPr>
          <p:spPr>
            <a:xfrm>
              <a:off x="356760" y="5954760"/>
              <a:ext cx="857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8" name="Group 57"/>
          <p:cNvGrpSpPr/>
          <p:nvPr/>
        </p:nvGrpSpPr>
        <p:grpSpPr>
          <a:xfrm>
            <a:off x="428760" y="2214720"/>
            <a:ext cx="2143080" cy="428400"/>
            <a:chOff x="428760" y="2214720"/>
            <a:chExt cx="2143080" cy="428400"/>
          </a:xfrm>
        </p:grpSpPr>
        <p:sp>
          <p:nvSpPr>
            <p:cNvPr id="239" name="TextBox 8"/>
            <p:cNvSpPr/>
            <p:nvPr/>
          </p:nvSpPr>
          <p:spPr>
            <a:xfrm>
              <a:off x="500040" y="2214720"/>
              <a:ext cx="20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Cambria"/>
                </a:rPr>
                <a:t>Big trade deficit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428760" y="2214720"/>
              <a:ext cx="2143080" cy="428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41" name="TextBox 64"/>
          <p:cNvSpPr/>
          <p:nvPr/>
        </p:nvSpPr>
        <p:spPr>
          <a:xfrm>
            <a:off x="6015960" y="18572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Other OECD countri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Rectangle 65"/>
          <p:cNvSpPr/>
          <p:nvPr/>
        </p:nvSpPr>
        <p:spPr>
          <a:xfrm>
            <a:off x="5995440" y="221472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Eg Australia: Commoditie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43" name="Group 80"/>
          <p:cNvGrpSpPr/>
          <p:nvPr/>
        </p:nvGrpSpPr>
        <p:grpSpPr>
          <a:xfrm>
            <a:off x="5153040" y="3214800"/>
            <a:ext cx="3346200" cy="1011240"/>
            <a:chOff x="5153040" y="3214800"/>
            <a:chExt cx="3346200" cy="1011240"/>
          </a:xfrm>
        </p:grpSpPr>
        <p:sp>
          <p:nvSpPr>
            <p:cNvPr id="244" name="TextBox 12"/>
            <p:cNvSpPr/>
            <p:nvPr/>
          </p:nvSpPr>
          <p:spPr>
            <a:xfrm>
              <a:off x="5153040" y="321480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Cambria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grpSp>
          <p:nvGrpSpPr>
            <p:cNvPr id="245" name="Group 79"/>
            <p:cNvGrpSpPr/>
            <p:nvPr/>
          </p:nvGrpSpPr>
          <p:grpSpPr>
            <a:xfrm>
              <a:off x="5345280" y="3643560"/>
              <a:ext cx="3153960" cy="582480"/>
              <a:chOff x="5345280" y="3643560"/>
              <a:chExt cx="3153960" cy="582480"/>
            </a:xfrm>
          </p:grpSpPr>
          <p:sp>
            <p:nvSpPr>
              <p:cNvPr id="246" name="Rectangle 67"/>
              <p:cNvSpPr/>
              <p:nvPr/>
            </p:nvSpPr>
            <p:spPr>
              <a:xfrm>
                <a:off x="5345280" y="3643560"/>
                <a:ext cx="315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1800" spc="-1" strike="noStrike">
                    <a:solidFill>
                      <a:srgbClr val="000000"/>
                    </a:solidFill>
                    <a:latin typeface="Cambria"/>
                  </a:rPr>
                  <a:t>India, Brazil, Chile, South Africa</a:t>
                </a: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grpSp>
            <p:nvGrpSpPr>
              <p:cNvPr id="247" name="Group 74"/>
              <p:cNvGrpSpPr/>
              <p:nvPr/>
            </p:nvGrpSpPr>
            <p:grpSpPr>
              <a:xfrm>
                <a:off x="5643360" y="3857760"/>
                <a:ext cx="1473120" cy="368280"/>
                <a:chOff x="5643360" y="3857760"/>
                <a:chExt cx="1473120" cy="368280"/>
              </a:xfrm>
            </p:grpSpPr>
            <p:sp>
              <p:nvSpPr>
                <p:cNvPr id="248" name="Rectangle 63"/>
                <p:cNvSpPr/>
                <p:nvPr/>
              </p:nvSpPr>
              <p:spPr>
                <a:xfrm>
                  <a:off x="5818680" y="3857760"/>
                  <a:ext cx="1297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H" sz="1800" spc="-1" strike="noStrike">
                      <a:solidFill>
                        <a:srgbClr val="000000"/>
                      </a:solidFill>
                      <a:latin typeface="Cambria"/>
                    </a:rPr>
                    <a:t>outsourc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249" name="Right Arrow 72"/>
                <p:cNvSpPr/>
                <p:nvPr/>
              </p:nvSpPr>
              <p:spPr>
                <a:xfrm>
                  <a:off x="5643360" y="4072320"/>
                  <a:ext cx="142920" cy="71280"/>
                </a:xfrm>
                <a:prstGeom prst="rightArrow">
                  <a:avLst>
                    <a:gd name="adj1" fmla="val 50000"/>
                    <a:gd name="adj2" fmla="val 50126"/>
                  </a:avLst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</p:grpSp>
      <p:grpSp>
        <p:nvGrpSpPr>
          <p:cNvPr id="250" name="Group 78"/>
          <p:cNvGrpSpPr/>
          <p:nvPr/>
        </p:nvGrpSpPr>
        <p:grpSpPr>
          <a:xfrm>
            <a:off x="5857920" y="3214800"/>
            <a:ext cx="2286000" cy="428400"/>
            <a:chOff x="5857920" y="3214800"/>
            <a:chExt cx="2286000" cy="428400"/>
          </a:xfrm>
        </p:grpSpPr>
        <p:grpSp>
          <p:nvGrpSpPr>
            <p:cNvPr id="251" name="Group 73"/>
            <p:cNvGrpSpPr/>
            <p:nvPr/>
          </p:nvGrpSpPr>
          <p:grpSpPr>
            <a:xfrm>
              <a:off x="6000480" y="3214800"/>
              <a:ext cx="2082240" cy="368280"/>
              <a:chOff x="6000480" y="3214800"/>
              <a:chExt cx="2082240" cy="368280"/>
            </a:xfrm>
          </p:grpSpPr>
          <p:sp>
            <p:nvSpPr>
              <p:cNvPr id="252" name="Rectangle 61"/>
              <p:cNvSpPr/>
              <p:nvPr/>
            </p:nvSpPr>
            <p:spPr>
              <a:xfrm>
                <a:off x="6129720" y="3214800"/>
                <a:ext cx="195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1800" spc="-1" strike="noStrike">
                    <a:solidFill>
                      <a:srgbClr val="000000"/>
                    </a:solidFill>
                    <a:latin typeface="Cambria"/>
                  </a:rPr>
                  <a:t>big trade surpluses</a:t>
                </a: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53" name="Right Arrow 69"/>
              <p:cNvSpPr/>
              <p:nvPr/>
            </p:nvSpPr>
            <p:spPr>
              <a:xfrm>
                <a:off x="6000480" y="3363840"/>
                <a:ext cx="142560" cy="71280"/>
              </a:xfrm>
              <a:prstGeom prst="rightArrow">
                <a:avLst>
                  <a:gd name="adj1" fmla="val 50000"/>
                  <a:gd name="adj2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sp>
          <p:nvSpPr>
            <p:cNvPr id="254" name="Oval 77"/>
            <p:cNvSpPr/>
            <p:nvPr/>
          </p:nvSpPr>
          <p:spPr>
            <a:xfrm>
              <a:off x="5857920" y="3214800"/>
              <a:ext cx="2286000" cy="428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cxnSp>
        <p:nvCxnSpPr>
          <p:cNvPr id="255" name="Straight Arrow Connector 82"/>
          <p:cNvCxnSpPr/>
          <p:nvPr/>
        </p:nvCxnSpPr>
        <p:spPr>
          <a:xfrm flipH="1">
            <a:off x="2142360" y="1500120"/>
            <a:ext cx="1429560" cy="257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Straight Arrow Connector 84"/>
          <p:cNvCxnSpPr/>
          <p:nvPr/>
        </p:nvCxnSpPr>
        <p:spPr>
          <a:xfrm>
            <a:off x="1143000" y="3143160"/>
            <a:ext cx="7200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Straight Arrow Connector 86"/>
          <p:cNvCxnSpPr>
            <a:stCxn id="244" idx="1"/>
          </p:cNvCxnSpPr>
          <p:nvPr/>
        </p:nvCxnSpPr>
        <p:spPr>
          <a:xfrm flipH="1" flipV="1">
            <a:off x="2999880" y="2142720"/>
            <a:ext cx="2144160" cy="125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Straight Arrow Connector 88"/>
          <p:cNvCxnSpPr/>
          <p:nvPr/>
        </p:nvCxnSpPr>
        <p:spPr>
          <a:xfrm flipH="1">
            <a:off x="3642480" y="1285920"/>
            <a:ext cx="242964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Straight Arrow Connector 90"/>
          <p:cNvCxnSpPr/>
          <p:nvPr/>
        </p:nvCxnSpPr>
        <p:spPr>
          <a:xfrm flipH="1">
            <a:off x="2642400" y="1284840"/>
            <a:ext cx="3429720" cy="285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Straight Arrow Connector 92"/>
          <p:cNvCxnSpPr>
            <a:stCxn id="241" idx="1"/>
          </p:cNvCxnSpPr>
          <p:nvPr/>
        </p:nvCxnSpPr>
        <p:spPr>
          <a:xfrm flipH="1">
            <a:off x="2642400" y="2056320"/>
            <a:ext cx="3358440" cy="22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Straight Arrow Connector 94"/>
          <p:cNvCxnSpPr/>
          <p:nvPr/>
        </p:nvCxnSpPr>
        <p:spPr>
          <a:xfrm flipH="1">
            <a:off x="2785320" y="3499200"/>
            <a:ext cx="2429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Straight Arrow Connector 96"/>
          <p:cNvCxnSpPr/>
          <p:nvPr/>
        </p:nvCxnSpPr>
        <p:spPr>
          <a:xfrm flipH="1" flipV="1">
            <a:off x="2928600" y="4357080"/>
            <a:ext cx="257256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Straight Arrow Connector 98"/>
          <p:cNvCxnSpPr>
            <a:endCxn id="232" idx="2"/>
          </p:cNvCxnSpPr>
          <p:nvPr/>
        </p:nvCxnSpPr>
        <p:spPr>
          <a:xfrm flipH="1" flipV="1">
            <a:off x="2785320" y="2195280"/>
            <a:ext cx="2715480" cy="25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Rectangle 105"/>
          <p:cNvSpPr/>
          <p:nvPr/>
        </p:nvSpPr>
        <p:spPr>
          <a:xfrm>
            <a:off x="214200" y="44290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Africa, Asia/Pacific, Central/South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America, Caribbean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65" name="Straight Arrow Connector 55"/>
          <p:cNvCxnSpPr>
            <a:stCxn id="246" idx="1"/>
          </p:cNvCxnSpPr>
          <p:nvPr/>
        </p:nvCxnSpPr>
        <p:spPr>
          <a:xfrm flipH="1">
            <a:off x="2785320" y="3826440"/>
            <a:ext cx="250092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pull dir="rd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2300040" y="620640"/>
            <a:ext cx="26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The next phase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673560" y="119700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. Strauss-Kahn, IMF, Vancouver, 22 June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4965840" y="119700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A road along a cliff”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9" name="Picture 4" descr="SCAN0000.JPG"/>
          <p:cNvPicPr/>
          <p:nvPr/>
        </p:nvPicPr>
        <p:blipFill>
          <a:blip r:embed="rId1"/>
          <a:stretch/>
        </p:blipFill>
        <p:spPr>
          <a:xfrm>
            <a:off x="603360" y="1908000"/>
            <a:ext cx="3328920" cy="2382840"/>
          </a:xfrm>
          <a:prstGeom prst="rect">
            <a:avLst/>
          </a:prstGeom>
          <a:ln w="0">
            <a:noFill/>
          </a:ln>
        </p:spPr>
      </p:pic>
      <p:sp>
        <p:nvSpPr>
          <p:cNvPr id="270" name="TextBox 5"/>
          <p:cNvSpPr/>
          <p:nvPr/>
        </p:nvSpPr>
        <p:spPr>
          <a:xfrm>
            <a:off x="4206960" y="29242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Heavy sovereign debt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71" name="Straight Arrow Connector 8"/>
          <p:cNvCxnSpPr/>
          <p:nvPr/>
        </p:nvCxnSpPr>
        <p:spPr>
          <a:xfrm flipH="1">
            <a:off x="4932000" y="1483920"/>
            <a:ext cx="792720" cy="1513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72" name="Group 12"/>
          <p:cNvGrpSpPr/>
          <p:nvPr/>
        </p:nvGrpSpPr>
        <p:grpSpPr>
          <a:xfrm>
            <a:off x="6442560" y="1557000"/>
            <a:ext cx="2275560" cy="1736280"/>
            <a:chOff x="6442560" y="1557000"/>
            <a:chExt cx="2275560" cy="1736280"/>
          </a:xfrm>
        </p:grpSpPr>
        <p:sp>
          <p:nvSpPr>
            <p:cNvPr id="273" name="TextBox 6"/>
            <p:cNvSpPr/>
            <p:nvPr/>
          </p:nvSpPr>
          <p:spPr>
            <a:xfrm>
              <a:off x="6582240" y="292500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mbria"/>
                </a:rPr>
                <a:t>Double-dip recession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cxnSp>
          <p:nvCxnSpPr>
            <p:cNvPr id="274" name="Straight Arrow Connector 10"/>
            <p:cNvCxnSpPr/>
            <p:nvPr/>
          </p:nvCxnSpPr>
          <p:spPr>
            <a:xfrm>
              <a:off x="6442560" y="1557000"/>
              <a:ext cx="649080" cy="129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275" name="TextBox 13"/>
          <p:cNvSpPr/>
          <p:nvPr/>
        </p:nvSpPr>
        <p:spPr>
          <a:xfrm>
            <a:off x="1384200" y="4797360"/>
            <a:ext cx="40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sultation with Stephen Harper 18 June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TextBox 14"/>
          <p:cNvSpPr/>
          <p:nvPr/>
        </p:nvSpPr>
        <p:spPr>
          <a:xfrm>
            <a:off x="1442520" y="5229360"/>
            <a:ext cx="51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Letter by US President Obama to G20 Leaders, 18 June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TextBox 15"/>
          <p:cNvSpPr/>
          <p:nvPr/>
        </p:nvSpPr>
        <p:spPr>
          <a:xfrm>
            <a:off x="1361880" y="566100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G20 Statement 26-27 June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2171160" y="692280"/>
            <a:ext cx="38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The risk down the road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TextBox 2"/>
          <p:cNvSpPr/>
          <p:nvPr/>
        </p:nvSpPr>
        <p:spPr>
          <a:xfrm>
            <a:off x="666000" y="134136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SK again in Vancouver, 22 June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737280" y="1844640"/>
            <a:ext cx="69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The taxpayers bailed out the banks once. They won’t do it a second time.”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835200" y="2276640"/>
            <a:ext cx="749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banks and other financial actors (hedge funds, etc.) continue to speculate …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financial sector is insufficiently regulated …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regulation lacks global coherence …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there is no reserve for a future bail-ou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1269720" y="3860640"/>
            <a:ext cx="34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global economy could reach …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5558040" y="386064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end of the road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4" name="Picture 10" descr="SCAN0001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2843280" y="4365720"/>
            <a:ext cx="3097080" cy="2211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0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1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8" descr="Bloomberg best markets of 09.png"/>
          <p:cNvPicPr/>
          <p:nvPr/>
        </p:nvPicPr>
        <p:blipFill>
          <a:blip r:embed="rId1"/>
          <a:stretch/>
        </p:blipFill>
        <p:spPr>
          <a:xfrm>
            <a:off x="2000160" y="1857240"/>
            <a:ext cx="4929120" cy="36165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9"/>
          <p:cNvSpPr/>
          <p:nvPr/>
        </p:nvSpPr>
        <p:spPr>
          <a:xfrm>
            <a:off x="797400" y="7858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March 2009 – March 2010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TextBox 22"/>
          <p:cNvSpPr/>
          <p:nvPr/>
        </p:nvSpPr>
        <p:spPr>
          <a:xfrm>
            <a:off x="810000" y="128592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Financial markets had recovered significantl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TextBox 23"/>
          <p:cNvSpPr/>
          <p:nvPr/>
        </p:nvSpPr>
        <p:spPr>
          <a:xfrm>
            <a:off x="943920" y="564372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Upswing continued to March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sh dir="r"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1876680" y="642960"/>
            <a:ext cx="48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An indicator of global trade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755640" y="1268280"/>
            <a:ext cx="80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BDI shows increasing signs of stres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1" name="Picture 2" descr="6-18-10-Daily-Baltic-Dry-Index"/>
          <p:cNvPicPr/>
          <p:nvPr/>
        </p:nvPicPr>
        <p:blipFill>
          <a:blip r:embed="rId1"/>
          <a:stretch/>
        </p:blipFill>
        <p:spPr>
          <a:xfrm>
            <a:off x="826920" y="1700280"/>
            <a:ext cx="6481800" cy="4863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3" name="Picture 1" descr="Need a Real Sponsor here"/>
          <p:cNvPicPr/>
          <p:nvPr/>
        </p:nvPicPr>
        <p:blipFill>
          <a:blip r:embed="rId1"/>
          <a:stretch/>
        </p:blipFill>
        <p:spPr>
          <a:xfrm>
            <a:off x="755640" y="692280"/>
            <a:ext cx="3737160" cy="5857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859680" y="1329840"/>
            <a:ext cx="49492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MS Mincho"/>
              </a:rPr>
              <a:t>June 23, 2010, 3:58 PM GM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Arial"/>
              </a:rPr>
              <a:t>Don’t Panic, But The Baltic Dry Is Down Agai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5" name="Picture 4" descr="bdiy622"/>
          <p:cNvPicPr/>
          <p:nvPr/>
        </p:nvPicPr>
        <p:blipFill>
          <a:blip r:embed="rId2"/>
          <a:stretch/>
        </p:blipFill>
        <p:spPr>
          <a:xfrm>
            <a:off x="1042920" y="2038320"/>
            <a:ext cx="6337440" cy="4299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June%2024%20chart%202"/>
          <p:cNvPicPr/>
          <p:nvPr/>
        </p:nvPicPr>
        <p:blipFill>
          <a:blip r:embed="rId1"/>
          <a:stretch/>
        </p:blipFill>
        <p:spPr>
          <a:xfrm>
            <a:off x="1782720" y="1341360"/>
            <a:ext cx="5694480" cy="4256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16"/>
          <p:cNvGrpSpPr/>
          <p:nvPr/>
        </p:nvGrpSpPr>
        <p:grpSpPr>
          <a:xfrm>
            <a:off x="714240" y="571680"/>
            <a:ext cx="8429760" cy="3482640"/>
            <a:chOff x="714240" y="571680"/>
            <a:chExt cx="8429760" cy="3482640"/>
          </a:xfrm>
        </p:grpSpPr>
        <p:pic>
          <p:nvPicPr>
            <p:cNvPr id="298" name="Picture 8" descr=""/>
            <p:cNvPicPr/>
            <p:nvPr/>
          </p:nvPicPr>
          <p:blipFill>
            <a:blip r:embed="rId1"/>
            <a:stretch/>
          </p:blipFill>
          <p:spPr>
            <a:xfrm>
              <a:off x="714240" y="571680"/>
              <a:ext cx="36036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logo" descr="Google"/>
            <p:cNvPicPr/>
            <p:nvPr/>
          </p:nvPicPr>
          <p:blipFill>
            <a:blip r:embed="rId2"/>
            <a:stretch/>
          </p:blipFill>
          <p:spPr>
            <a:xfrm>
              <a:off x="3214440" y="857160"/>
              <a:ext cx="259092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5"/>
            <p:cNvSpPr/>
            <p:nvPr/>
          </p:nvSpPr>
          <p:spPr>
            <a:xfrm>
              <a:off x="1043280" y="1917000"/>
              <a:ext cx="70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5 July 2010: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</a:rPr>
                <a:t>25,900,000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 hits for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</a:rPr>
                <a:t>"recession is over“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301" name="Picture 10" descr="Illustration by Mark Alan Stamaty. Click image to expand."/>
            <p:cNvPicPr/>
            <p:nvPr/>
          </p:nvPicPr>
          <p:blipFill>
            <a:blip r:embed="rId3"/>
            <a:stretch/>
          </p:blipFill>
          <p:spPr>
            <a:xfrm>
              <a:off x="6743880" y="2349360"/>
              <a:ext cx="2400120" cy="17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TextBox 15"/>
          <p:cNvSpPr/>
          <p:nvPr/>
        </p:nvSpPr>
        <p:spPr>
          <a:xfrm>
            <a:off x="527040" y="3141720"/>
            <a:ext cx="570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adio Canada, 22/4/2010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apport du FMI: la récession mondiale est terminée!!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1865160" y="4653000"/>
            <a:ext cx="39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BC News, 23/5/2010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s the recession definitely over now?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"/>
          <p:cNvSpPr/>
          <p:nvPr/>
        </p:nvSpPr>
        <p:spPr>
          <a:xfrm>
            <a:off x="324000" y="83772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OECD has predicted a jobless recove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611280" y="1550880"/>
            <a:ext cx="6769080" cy="4799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8"/>
          <p:cNvSpPr/>
          <p:nvPr/>
        </p:nvSpPr>
        <p:spPr>
          <a:xfrm>
            <a:off x="3027600" y="907920"/>
            <a:ext cx="30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Profiles of a crisis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195640" y="2101680"/>
            <a:ext cx="12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Phase 1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3575520" y="21337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Early warnings 2006 - 7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1302480" y="278136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ouriel Roubini (as far back as September 2006 – forecast the end o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real estate bubble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908280" y="5084640"/>
            <a:ext cx="60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oul Nyrup Rasmussen’s book: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“In a Time of Greed”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4881240" y="3645000"/>
            <a:ext cx="168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Joseph Stiglitz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martya Se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aul Krugma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428760" y="714240"/>
            <a:ext cx="79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mbria"/>
              </a:rPr>
              <a:t>Unemployment increased steeply in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mbria"/>
              </a:rPr>
              <a:t>Industrialized countri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7" name="Picture 2" descr="http://www.tuac.org/en/member/e-docs/00/00/05/CC/media_UNEM.png"/>
          <p:cNvPicPr/>
          <p:nvPr/>
        </p:nvPicPr>
        <p:blipFill>
          <a:blip r:embed="rId1"/>
          <a:stretch/>
        </p:blipFill>
        <p:spPr>
          <a:xfrm>
            <a:off x="2428920" y="1785960"/>
            <a:ext cx="3905280" cy="30481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4"/>
          <p:cNvSpPr/>
          <p:nvPr/>
        </p:nvSpPr>
        <p:spPr>
          <a:xfrm>
            <a:off x="636120" y="4929120"/>
            <a:ext cx="773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mbria"/>
              </a:rPr>
              <a:t>OECD does not project much improvement in </a:t>
            </a:r>
            <a:br>
              <a:rPr sz="3200"/>
            </a:br>
            <a:r>
              <a:rPr b="0" lang="fr-CH" sz="3200" spc="-1" strike="noStrike">
                <a:solidFill>
                  <a:srgbClr val="000000"/>
                </a:solidFill>
                <a:latin typeface="Cambria"/>
              </a:rPr>
              <a:t>employment in 2010 - 201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9" name="Picture 2" descr="Organisation for Economic Co-operation and Development"/>
          <p:cNvPicPr/>
          <p:nvPr/>
        </p:nvPicPr>
        <p:blipFill>
          <a:blip r:embed="rId2"/>
          <a:stretch/>
        </p:blipFill>
        <p:spPr>
          <a:xfrm>
            <a:off x="7215120" y="714240"/>
            <a:ext cx="1809720" cy="666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TUAC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 trade union advisory committee to the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OECD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Wingdings"/>
                <a:ea typeface="Wingdings"/>
              </a:rPr>
              <a:t>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CSC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 commission syndicale consultative auprès de l’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OCDE</a:t>
            </a:r>
            <a:endParaRPr b="0" lang="en-US" sz="1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5840" y="914400"/>
            <a:ext cx="6913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2" name="Picture 8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360360" cy="3650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714240" y="11430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mbria"/>
              </a:rPr>
              <a:t>Global Economic Prospects for 2010 – according to the IMF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2000160" y="1571760"/>
            <a:ext cx="5327640" cy="4792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rcRect l="46918" t="48774" r="1135" b="0"/>
          <a:stretch/>
        </p:blipFill>
        <p:spPr>
          <a:xfrm>
            <a:off x="1908000" y="1123920"/>
            <a:ext cx="4680000" cy="5075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Download the Excel file"/>
          <p:cNvPicPr/>
          <p:nvPr/>
        </p:nvPicPr>
        <p:blipFill>
          <a:blip r:embed="rId1"/>
          <a:stretch/>
        </p:blipFill>
        <p:spPr>
          <a:xfrm>
            <a:off x="971640" y="1700280"/>
            <a:ext cx="7130880" cy="3744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10"/>
          <p:cNvSpPr/>
          <p:nvPr/>
        </p:nvSpPr>
        <p:spPr>
          <a:xfrm>
            <a:off x="2195640" y="836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The World Bank: 6 July 2010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1476360" y="2781360"/>
            <a:ext cx="64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ny are still being left behi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43 poor countries are suffering effects of the global recess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y face $11.6bn shortfall in core spending for health, education, etc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1332000" y="1700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Global economy is showing signs of recovery, bu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1332000" y="2924280"/>
            <a:ext cx="633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64 million more people will fall into extreme poverty in 201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30-50 thousand more babies may die in Africa this yea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 billion people could go chronically hungry this year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2195640" y="836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The World Bank: 6 July 2010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900000" y="162864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he crisis is jeopardizing years of progress in fighting povert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"/>
          <p:cNvSpPr/>
          <p:nvPr/>
        </p:nvSpPr>
        <p:spPr>
          <a:xfrm>
            <a:off x="2195640" y="11253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The World Bank: 6 July 2010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971640" y="270828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he poorest countries have been hit hard in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://siteresources.worldbank.org/INTPOVERTY/Images/Tab_Poverty.gif"/>
          <p:cNvPicPr/>
          <p:nvPr/>
        </p:nvPicPr>
        <p:blipFill>
          <a:blip r:embed="rId1"/>
          <a:stretch/>
        </p:blipFill>
        <p:spPr>
          <a:xfrm>
            <a:off x="1835280" y="2133720"/>
            <a:ext cx="5362560" cy="30240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2"/>
          <p:cNvSpPr/>
          <p:nvPr/>
        </p:nvSpPr>
        <p:spPr>
          <a:xfrm>
            <a:off x="826920" y="112536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crisis increased poverty rates in comparison to what they would have been without the crisis. This is the case for all these four countrie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713160" y="5805360"/>
            <a:ext cx="13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Source World Bank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http://siteresources.worldbank.org/INTPOVERTY/Images/TrendsInGlobalFoodPrices_CHART.gif"/>
          <p:cNvPicPr/>
          <p:nvPr/>
        </p:nvPicPr>
        <p:blipFill>
          <a:blip r:embed="rId1"/>
          <a:stretch/>
        </p:blipFill>
        <p:spPr>
          <a:xfrm>
            <a:off x="1979640" y="2133720"/>
            <a:ext cx="5040360" cy="36558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3"/>
          <p:cNvSpPr/>
          <p:nvPr/>
        </p:nvSpPr>
        <p:spPr>
          <a:xfrm>
            <a:off x="826920" y="836640"/>
            <a:ext cx="777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hile the global focus on food prices has waned, domestic staple food prices in several countries have experienced double digit increases in 2009, particularly in Sub-Saharan Africa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713160" y="6237360"/>
            <a:ext cx="13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Source World Bank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ILO Home"/>
          <p:cNvPicPr/>
          <p:nvPr/>
        </p:nvPicPr>
        <p:blipFill>
          <a:blip r:embed="rId1"/>
          <a:stretch/>
        </p:blipFill>
        <p:spPr>
          <a:xfrm>
            <a:off x="155520" y="-250920"/>
            <a:ext cx="1428840" cy="523800"/>
          </a:xfrm>
          <a:prstGeom prst="rect">
            <a:avLst/>
          </a:prstGeom>
          <a:ln w="0">
            <a:noFill/>
          </a:ln>
        </p:spPr>
      </p:pic>
      <p:grpSp>
        <p:nvGrpSpPr>
          <p:cNvPr id="332" name="Group 7"/>
          <p:cNvGrpSpPr/>
          <p:nvPr/>
        </p:nvGrpSpPr>
        <p:grpSpPr>
          <a:xfrm>
            <a:off x="571680" y="857160"/>
            <a:ext cx="3564720" cy="929880"/>
            <a:chOff x="571680" y="857160"/>
            <a:chExt cx="3564720" cy="929880"/>
          </a:xfrm>
        </p:grpSpPr>
        <p:pic>
          <p:nvPicPr>
            <p:cNvPr id="333" name="Picture 4" descr=""/>
            <p:cNvPicPr/>
            <p:nvPr/>
          </p:nvPicPr>
          <p:blipFill>
            <a:blip r:embed="rId2"/>
            <a:stretch/>
          </p:blipFill>
          <p:spPr>
            <a:xfrm>
              <a:off x="571680" y="857160"/>
              <a:ext cx="1214280" cy="9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Box 5"/>
            <p:cNvSpPr/>
            <p:nvPr/>
          </p:nvSpPr>
          <p:spPr>
            <a:xfrm>
              <a:off x="2363040" y="1143000"/>
              <a:ext cx="177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THE ILO: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2286000" y="235728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INANCIAL AND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IC CRISIS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DECENT WORK RESPONS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927720" y="1052640"/>
            <a:ext cx="120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Phase 2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451600" y="1052640"/>
            <a:ext cx="29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Pressure builds: 2007 - 2008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171960" y="620640"/>
            <a:ext cx="30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Profiles of a crisis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686160" y="170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AUGUST 2007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63" name="Group 19"/>
          <p:cNvGrpSpPr/>
          <p:nvPr/>
        </p:nvGrpSpPr>
        <p:grpSpPr>
          <a:xfrm>
            <a:off x="1050480" y="2200320"/>
            <a:ext cx="2408760" cy="714240"/>
            <a:chOff x="1050480" y="2200320"/>
            <a:chExt cx="2408760" cy="714240"/>
          </a:xfrm>
        </p:grpSpPr>
        <p:sp>
          <p:nvSpPr>
            <p:cNvPr id="64" name="TextBox 8"/>
            <p:cNvSpPr/>
            <p:nvPr/>
          </p:nvSpPr>
          <p:spPr>
            <a:xfrm>
              <a:off x="1050480" y="2200320"/>
              <a:ext cx="24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Sub-prime mortgages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65" name="Down Arrow 9"/>
            <p:cNvSpPr/>
            <p:nvPr/>
          </p:nvSpPr>
          <p:spPr>
            <a:xfrm>
              <a:off x="2112480" y="2557440"/>
              <a:ext cx="214200" cy="35712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66" name="Group 20"/>
          <p:cNvGrpSpPr/>
          <p:nvPr/>
        </p:nvGrpSpPr>
        <p:grpSpPr>
          <a:xfrm>
            <a:off x="672480" y="2914560"/>
            <a:ext cx="3234960" cy="714240"/>
            <a:chOff x="672480" y="2914560"/>
            <a:chExt cx="3234960" cy="714240"/>
          </a:xfrm>
        </p:grpSpPr>
        <p:sp>
          <p:nvSpPr>
            <p:cNvPr id="67" name="TextBox 11"/>
            <p:cNvSpPr/>
            <p:nvPr/>
          </p:nvSpPr>
          <p:spPr>
            <a:xfrm>
              <a:off x="672480" y="2914560"/>
              <a:ext cx="323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Structured financial products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68" name="Down Arrow 12"/>
            <p:cNvSpPr/>
            <p:nvPr/>
          </p:nvSpPr>
          <p:spPr>
            <a:xfrm>
              <a:off x="2112840" y="3271680"/>
              <a:ext cx="214200" cy="35712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69" name="Group 21"/>
          <p:cNvGrpSpPr/>
          <p:nvPr/>
        </p:nvGrpSpPr>
        <p:grpSpPr>
          <a:xfrm>
            <a:off x="707040" y="3629160"/>
            <a:ext cx="3294360" cy="714240"/>
            <a:chOff x="707040" y="3629160"/>
            <a:chExt cx="3294360" cy="714240"/>
          </a:xfrm>
        </p:grpSpPr>
        <p:sp>
          <p:nvSpPr>
            <p:cNvPr id="70" name="TextBox 14"/>
            <p:cNvSpPr/>
            <p:nvPr/>
          </p:nvSpPr>
          <p:spPr>
            <a:xfrm>
              <a:off x="707040" y="3629160"/>
              <a:ext cx="329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Where are the toxic products?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1" name="Down Arrow 15"/>
            <p:cNvSpPr/>
            <p:nvPr/>
          </p:nvSpPr>
          <p:spPr>
            <a:xfrm>
              <a:off x="2113200" y="3986280"/>
              <a:ext cx="214200" cy="35712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72" name="Group 22"/>
          <p:cNvGrpSpPr/>
          <p:nvPr/>
        </p:nvGrpSpPr>
        <p:grpSpPr>
          <a:xfrm>
            <a:off x="811080" y="4343400"/>
            <a:ext cx="2911680" cy="714240"/>
            <a:chOff x="811080" y="4343400"/>
            <a:chExt cx="2911680" cy="714240"/>
          </a:xfrm>
        </p:grpSpPr>
        <p:sp>
          <p:nvSpPr>
            <p:cNvPr id="73" name="TextBox 17"/>
            <p:cNvSpPr/>
            <p:nvPr/>
          </p:nvSpPr>
          <p:spPr>
            <a:xfrm>
              <a:off x="811080" y="4343400"/>
              <a:ext cx="291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Inter bank lending freezes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4" name="Down Arrow 18"/>
            <p:cNvSpPr/>
            <p:nvPr/>
          </p:nvSpPr>
          <p:spPr>
            <a:xfrm>
              <a:off x="2112840" y="4700520"/>
              <a:ext cx="214200" cy="35712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75" name="Group 23"/>
          <p:cNvGrpSpPr/>
          <p:nvPr/>
        </p:nvGrpSpPr>
        <p:grpSpPr>
          <a:xfrm>
            <a:off x="541440" y="5057640"/>
            <a:ext cx="3714480" cy="1357560"/>
            <a:chOff x="541440" y="5057640"/>
            <a:chExt cx="3714480" cy="1357560"/>
          </a:xfrm>
        </p:grpSpPr>
        <p:sp>
          <p:nvSpPr>
            <p:cNvPr id="76" name="TextBox 20"/>
            <p:cNvSpPr/>
            <p:nvPr/>
          </p:nvSpPr>
          <p:spPr>
            <a:xfrm>
              <a:off x="1129680" y="5486400"/>
              <a:ext cx="22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THE PARTY STOPS !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7" name="Explosion 1 21"/>
            <p:cNvSpPr/>
            <p:nvPr/>
          </p:nvSpPr>
          <p:spPr>
            <a:xfrm>
              <a:off x="541440" y="5057640"/>
              <a:ext cx="3714480" cy="1357560"/>
            </a:xfrm>
            <a:prstGeom prst="irregularSeal1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78" name="TextBox 22"/>
          <p:cNvSpPr/>
          <p:nvPr/>
        </p:nvSpPr>
        <p:spPr>
          <a:xfrm>
            <a:off x="5218200" y="1414440"/>
            <a:ext cx="19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DECEMBER 2007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79" name="Group 24"/>
          <p:cNvGrpSpPr/>
          <p:nvPr/>
        </p:nvGrpSpPr>
        <p:grpSpPr>
          <a:xfrm>
            <a:off x="4899600" y="1986120"/>
            <a:ext cx="2921040" cy="1071360"/>
            <a:chOff x="4899600" y="1986120"/>
            <a:chExt cx="2921040" cy="1071360"/>
          </a:xfrm>
        </p:grpSpPr>
        <p:sp>
          <p:nvSpPr>
            <p:cNvPr id="80" name="TextBox 24"/>
            <p:cNvSpPr/>
            <p:nvPr/>
          </p:nvSpPr>
          <p:spPr>
            <a:xfrm>
              <a:off x="4899600" y="1986120"/>
              <a:ext cx="2921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Central banks start to ease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credit  and money supply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81" name="Down Arrow 25"/>
            <p:cNvSpPr/>
            <p:nvPr/>
          </p:nvSpPr>
          <p:spPr>
            <a:xfrm>
              <a:off x="6168600" y="2700360"/>
              <a:ext cx="214200" cy="35712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82" name="TextBox 26"/>
          <p:cNvSpPr/>
          <p:nvPr/>
        </p:nvSpPr>
        <p:spPr>
          <a:xfrm>
            <a:off x="5470200" y="312912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AUGUST 2008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TextBox 27"/>
          <p:cNvSpPr/>
          <p:nvPr/>
        </p:nvSpPr>
        <p:spPr>
          <a:xfrm>
            <a:off x="4969440" y="3557520"/>
            <a:ext cx="31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mbria"/>
              </a:rPr>
              <a:t>US Fed bails out Fannie Ma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mbria"/>
              </a:rPr>
              <a:t>and Freddie Mac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TextBox 28"/>
          <p:cNvSpPr/>
          <p:nvPr/>
        </p:nvSpPr>
        <p:spPr>
          <a:xfrm>
            <a:off x="5247720" y="427212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15 SEPTEMBER 2008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Rectangle 29"/>
          <p:cNvSpPr/>
          <p:nvPr/>
        </p:nvSpPr>
        <p:spPr>
          <a:xfrm>
            <a:off x="4910760" y="4700520"/>
            <a:ext cx="30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Lehman Brothers collapse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TextBox 30"/>
          <p:cNvSpPr/>
          <p:nvPr/>
        </p:nvSpPr>
        <p:spPr>
          <a:xfrm>
            <a:off x="5212440" y="51577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16 SEPTEMBER 2008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TextBox 31"/>
          <p:cNvSpPr/>
          <p:nvPr/>
        </p:nvSpPr>
        <p:spPr>
          <a:xfrm>
            <a:off x="5042520" y="55897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US bails out AIG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1571760" y="1357200"/>
            <a:ext cx="5408640" cy="4919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1000080" y="1214280"/>
            <a:ext cx="7375680" cy="3953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1"/>
          <p:cNvSpPr/>
          <p:nvPr/>
        </p:nvSpPr>
        <p:spPr>
          <a:xfrm>
            <a:off x="678600" y="857160"/>
            <a:ext cx="81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ique Strauss-Kahn, London 23 November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786600" y="2708280"/>
            <a:ext cx="55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old growth model is dead”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TextBox 3"/>
          <p:cNvSpPr/>
          <p:nvPr/>
        </p:nvSpPr>
        <p:spPr>
          <a:xfrm>
            <a:off x="826920" y="3279600"/>
            <a:ext cx="795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old model under which households in the USA and elsewhere propelled the global economy with their voracious appetite for consumption, is dead – or at least on its last legs”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TextBox 4"/>
          <p:cNvSpPr/>
          <p:nvPr/>
        </p:nvSpPr>
        <p:spPr>
          <a:xfrm>
            <a:off x="781200" y="4637160"/>
            <a:ext cx="72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is shift would be helped by stronger social security systems an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igher spending on health and educat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1071720" y="1428840"/>
            <a:ext cx="72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xit too soon, and you kill the recovery. Exit too late, and you sow the seeds for the next crisis”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“Exiting too early is costlier than exiting too late”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TextBox 7"/>
          <p:cNvSpPr/>
          <p:nvPr/>
        </p:nvSpPr>
        <p:spPr>
          <a:xfrm>
            <a:off x="910800" y="566100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eated in Peru 22 June 2010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"/>
          <p:cNvSpPr/>
          <p:nvPr/>
        </p:nvSpPr>
        <p:spPr>
          <a:xfrm>
            <a:off x="2328120" y="1000080"/>
            <a:ext cx="448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Calibri"/>
              </a:rPr>
              <a:t>PARADIGM CHANG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TextBox 2"/>
          <p:cNvSpPr/>
          <p:nvPr/>
        </p:nvSpPr>
        <p:spPr>
          <a:xfrm>
            <a:off x="430560" y="20718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1440360" y="207180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imbalanc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1435680" y="2428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equit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1435320" y="27860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ino capitalis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489960" y="37148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TextBox 8"/>
          <p:cNvSpPr/>
          <p:nvPr/>
        </p:nvSpPr>
        <p:spPr>
          <a:xfrm>
            <a:off x="1433880" y="371484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ent work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TextBox 9"/>
          <p:cNvSpPr/>
          <p:nvPr/>
        </p:nvSpPr>
        <p:spPr>
          <a:xfrm>
            <a:off x="1438560" y="4071960"/>
            <a:ext cx="36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 transition to green job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TextBox 10"/>
          <p:cNvSpPr/>
          <p:nvPr/>
        </p:nvSpPr>
        <p:spPr>
          <a:xfrm>
            <a:off x="1431720" y="44290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TextBox 11"/>
          <p:cNvSpPr/>
          <p:nvPr/>
        </p:nvSpPr>
        <p:spPr>
          <a:xfrm>
            <a:off x="1441440" y="4786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and educ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TextBox 12"/>
          <p:cNvSpPr/>
          <p:nvPr/>
        </p:nvSpPr>
        <p:spPr>
          <a:xfrm>
            <a:off x="1162800" y="5643720"/>
            <a:ext cx="55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 paradigm for sustainable recovery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1"/>
          <p:cNvSpPr/>
          <p:nvPr/>
        </p:nvSpPr>
        <p:spPr>
          <a:xfrm>
            <a:off x="2067480" y="928800"/>
            <a:ext cx="500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UNWANTED PARADIG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TextBox 2"/>
          <p:cNvSpPr/>
          <p:nvPr/>
        </p:nvSpPr>
        <p:spPr>
          <a:xfrm>
            <a:off x="574200" y="235728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 to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7" name="TextBox 3"/>
          <p:cNvSpPr/>
          <p:nvPr/>
        </p:nvSpPr>
        <p:spPr>
          <a:xfrm>
            <a:off x="1085040" y="278604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w cycle of massive profit-taking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58" name="Group 18"/>
          <p:cNvGrpSpPr/>
          <p:nvPr/>
        </p:nvGrpSpPr>
        <p:grpSpPr>
          <a:xfrm>
            <a:off x="928800" y="1500120"/>
            <a:ext cx="8001000" cy="459720"/>
            <a:chOff x="928800" y="1500120"/>
            <a:chExt cx="8001000" cy="459720"/>
          </a:xfrm>
        </p:grpSpPr>
        <p:sp>
          <p:nvSpPr>
            <p:cNvPr id="359" name="TextBox 4"/>
            <p:cNvSpPr/>
            <p:nvPr/>
          </p:nvSpPr>
          <p:spPr>
            <a:xfrm>
              <a:off x="1714320" y="1500120"/>
              <a:ext cx="721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onetary easing of Oct – Dec 2008 created liquidity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60" name="Right Arrow 6"/>
            <p:cNvSpPr/>
            <p:nvPr/>
          </p:nvSpPr>
          <p:spPr>
            <a:xfrm>
              <a:off x="928800" y="1714680"/>
              <a:ext cx="714240" cy="142920"/>
            </a:xfrm>
            <a:prstGeom prst="rightArrow">
              <a:avLst>
                <a:gd name="adj1" fmla="val 50000"/>
                <a:gd name="adj2" fmla="val 49975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361" name="Group 19"/>
          <p:cNvGrpSpPr/>
          <p:nvPr/>
        </p:nvGrpSpPr>
        <p:grpSpPr>
          <a:xfrm>
            <a:off x="928800" y="1928880"/>
            <a:ext cx="6318000" cy="459720"/>
            <a:chOff x="928800" y="1928880"/>
            <a:chExt cx="6318000" cy="459720"/>
          </a:xfrm>
        </p:grpSpPr>
        <p:sp>
          <p:nvSpPr>
            <p:cNvPr id="362" name="TextBox 9"/>
            <p:cNvSpPr/>
            <p:nvPr/>
          </p:nvSpPr>
          <p:spPr>
            <a:xfrm>
              <a:off x="1803600" y="1928880"/>
              <a:ext cx="54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timulus packages were financed by banks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63" name="Right Arrow 10"/>
            <p:cNvSpPr/>
            <p:nvPr/>
          </p:nvSpPr>
          <p:spPr>
            <a:xfrm>
              <a:off x="928800" y="2143440"/>
              <a:ext cx="714240" cy="142920"/>
            </a:xfrm>
            <a:prstGeom prst="rightArrow">
              <a:avLst>
                <a:gd name="adj1" fmla="val 50000"/>
                <a:gd name="adj2" fmla="val 49975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64" name="TextBox 13"/>
          <p:cNvSpPr/>
          <p:nvPr/>
        </p:nvSpPr>
        <p:spPr>
          <a:xfrm>
            <a:off x="1077840" y="32860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“Bank bonuses make a come-back”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TextBox 14"/>
          <p:cNvSpPr/>
          <p:nvPr/>
        </p:nvSpPr>
        <p:spPr>
          <a:xfrm>
            <a:off x="1109880" y="3786120"/>
            <a:ext cx="746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ll Street Journal, 14 Oct 2009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23 firms will pay $140 billion this year – back to 2007 level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TextBox 15"/>
          <p:cNvSpPr/>
          <p:nvPr/>
        </p:nvSpPr>
        <p:spPr>
          <a:xfrm>
            <a:off x="523800" y="4643280"/>
            <a:ext cx="44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new round of speculation –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TextBox 16"/>
          <p:cNvSpPr/>
          <p:nvPr/>
        </p:nvSpPr>
        <p:spPr>
          <a:xfrm>
            <a:off x="4878000" y="464328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ntil the bubble bursts agai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TextBox 17"/>
          <p:cNvSpPr/>
          <p:nvPr/>
        </p:nvSpPr>
        <p:spPr>
          <a:xfrm>
            <a:off x="532800" y="5143680"/>
            <a:ext cx="73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d this time, no more room for monetary easing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r fiscal stimulus !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1"/>
          <p:cNvSpPr/>
          <p:nvPr/>
        </p:nvSpPr>
        <p:spPr>
          <a:xfrm>
            <a:off x="2352240" y="785880"/>
            <a:ext cx="438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E BIG THREAT TO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PUBLIC EDUCATION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TextBox 2"/>
          <p:cNvSpPr/>
          <p:nvPr/>
        </p:nvSpPr>
        <p:spPr>
          <a:xfrm>
            <a:off x="2091600" y="2928960"/>
            <a:ext cx="44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eclining public revenu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2300760" y="4429080"/>
            <a:ext cx="35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it strategies” to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duce defici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77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0" dur="770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2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4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77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1" dur="77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3" dur="77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5" dur="77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77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0" dur="77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2" dur="77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4" dur="77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946920" cy="47750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2395440" y="628560"/>
            <a:ext cx="4353120" cy="56008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2624040" y="676440"/>
            <a:ext cx="3895920" cy="5505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889280" y="1238400"/>
            <a:ext cx="4949640" cy="4782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1143720" y="2276640"/>
            <a:ext cx="120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Phase 3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553480" y="230832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Saving the financial secto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917000" y="3284640"/>
            <a:ext cx="48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20 Leader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ashington, USA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ov. 2008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688760" y="4149720"/>
            <a:ext cx="583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20 Leader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London, UK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pril 2009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92" name="Straight Arrow Connector 5"/>
          <p:cNvCxnSpPr/>
          <p:nvPr/>
        </p:nvCxnSpPr>
        <p:spPr>
          <a:xfrm>
            <a:off x="2049840" y="3716280"/>
            <a:ext cx="289440" cy="43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Rectangle 6"/>
          <p:cNvSpPr/>
          <p:nvPr/>
        </p:nvSpPr>
        <p:spPr>
          <a:xfrm>
            <a:off x="2955600" y="1125360"/>
            <a:ext cx="30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Profiles of a crisis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2"/>
          <p:cNvSpPr/>
          <p:nvPr/>
        </p:nvSpPr>
        <p:spPr>
          <a:xfrm>
            <a:off x="504720" y="623736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CTF-FCE Research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706680" y="913320"/>
            <a:ext cx="76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Helvetica-Narrow"/>
              </a:rPr>
              <a:t>Chart E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Helvetica-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Helvetica-Narrow"/>
              </a:rPr>
              <a:t>Share of Consolidated Provincial/Territorial and Local Government Spending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Helvetica-Narrow"/>
              </a:rPr>
              <a:t>Canada Allocated to Elementary-Secondary Education Drops to Lowest Level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Helvetica-Narrow"/>
              </a:rPr>
              <a:t>Two Decades in 2007‑08e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379" name="Object 2"/>
          <p:cNvGraphicFramePr/>
          <p:nvPr/>
        </p:nvGraphicFramePr>
        <p:xfrm>
          <a:off x="611280" y="2205000"/>
          <a:ext cx="676116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67611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TextBox 6"/>
          <p:cNvSpPr/>
          <p:nvPr/>
        </p:nvSpPr>
        <p:spPr>
          <a:xfrm>
            <a:off x="2616840" y="620640"/>
            <a:ext cx="39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EDUCATION FINANCE IN CANADA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2"/>
          <p:cNvSpPr/>
          <p:nvPr/>
        </p:nvSpPr>
        <p:spPr>
          <a:xfrm>
            <a:off x="288000" y="623736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CTF-FCE Research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95280" y="911520"/>
            <a:ext cx="89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Helvetica-Narrow"/>
              </a:rPr>
              <a:t>Chart D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Helvetica-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Helvetica-Narrow"/>
              </a:rPr>
              <a:t>Shares of Consolidated Provincial/Territorial and Local Government Spending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Helvetica-Narrow"/>
              </a:rPr>
              <a:t>Allocated to Elementary-Secondary Education in 2007‑08e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385" name="Object 2"/>
          <p:cNvGraphicFramePr/>
          <p:nvPr/>
        </p:nvGraphicFramePr>
        <p:xfrm>
          <a:off x="1187280" y="1773360"/>
          <a:ext cx="61135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61135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Box 6"/>
          <p:cNvSpPr/>
          <p:nvPr/>
        </p:nvSpPr>
        <p:spPr>
          <a:xfrm>
            <a:off x="2616840" y="620640"/>
            <a:ext cx="39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EDUCATION FINANCE IN CANADA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2578680" y="765000"/>
            <a:ext cx="39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mbria"/>
              </a:rPr>
              <a:t>FOUR KEY MESSAG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426960" y="155736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ff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DEFEND AND DEVELOP QUALITY PUBLIC SERVICES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buClr>
                <a:srgbClr val="ff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CLOSE THE FINANCING GAP FOR EFA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buClr>
                <a:srgbClr val="ff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PROMOTE A “SURGE” IN VOCATIONAL EDUCATION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AND TRAINING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buClr>
                <a:srgbClr val="ff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ETABLISH A NEW GLOBAL PARTNERSHIP FOR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TEACHER EDUCATION AND PROFESSIONAL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2"/>
          <p:cNvSpPr/>
          <p:nvPr/>
        </p:nvSpPr>
        <p:spPr>
          <a:xfrm>
            <a:off x="1353240" y="714240"/>
            <a:ext cx="26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REASSERTING VALU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TextBox 3"/>
          <p:cNvSpPr/>
          <p:nvPr/>
        </p:nvSpPr>
        <p:spPr>
          <a:xfrm>
            <a:off x="1395360" y="114300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TextBox 4"/>
          <p:cNvSpPr/>
          <p:nvPr/>
        </p:nvSpPr>
        <p:spPr>
          <a:xfrm>
            <a:off x="2146320" y="114300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1317240" y="1571760"/>
            <a:ext cx="47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EI’s VISION FOR EDUCATION AND SOCIETY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1643040" y="192888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Education is a public good not a commodity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1643040" y="228600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Education is central in our societies in many ways;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1643040" y="50720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Quality education requires quality teacher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1643040" y="54291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Education unions should be key actor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1643040" y="5857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Education is a human right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1571760" y="2571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82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ocial and economic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1571760" y="2857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82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uilding and defending democracy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571760" y="3214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82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dividual fulfillment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Rectangle 15"/>
          <p:cNvSpPr/>
          <p:nvPr/>
        </p:nvSpPr>
        <p:spPr>
          <a:xfrm>
            <a:off x="1590120" y="3500280"/>
            <a:ext cx="32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382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mmunity development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1652040" y="3786120"/>
            <a:ext cx="28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Education should promote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Rectangle 17"/>
          <p:cNvSpPr/>
          <p:nvPr/>
        </p:nvSpPr>
        <p:spPr>
          <a:xfrm>
            <a:off x="2148840" y="4143240"/>
            <a:ext cx="8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2120040" y="4429080"/>
            <a:ext cx="21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on-discrimination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2162880" y="4714920"/>
            <a:ext cx="31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understanding among peoples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77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9" dur="770" fill="hold"/>
                                        <p:tgtEl>
                                          <p:spTgt spid="3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1" dur="77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3" dur="77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295880" cy="5659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Educ Teachers for Diversity.JPG"/>
          <p:cNvPicPr/>
          <p:nvPr/>
        </p:nvPicPr>
        <p:blipFill>
          <a:blip r:embed="rId1"/>
          <a:srcRect l="10329" t="0" r="10329" b="20598"/>
          <a:stretch/>
        </p:blipFill>
        <p:spPr>
          <a:xfrm>
            <a:off x="2556000" y="907920"/>
            <a:ext cx="3887640" cy="5445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" descr="Pathway to success.JPG"/>
          <p:cNvPicPr/>
          <p:nvPr/>
        </p:nvPicPr>
        <p:blipFill>
          <a:blip r:embed="rId1"/>
          <a:srcRect l="4450" t="0" r="2985" b="6952"/>
          <a:stretch/>
        </p:blipFill>
        <p:spPr>
          <a:xfrm>
            <a:off x="2340000" y="765000"/>
            <a:ext cx="4319640" cy="5759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3876840" cy="5467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2"/>
          <p:cNvSpPr/>
          <p:nvPr/>
        </p:nvSpPr>
        <p:spPr>
          <a:xfrm>
            <a:off x="785880" y="1428840"/>
            <a:ext cx="721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TF PRESIDENT’S FORU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mbria"/>
              </a:rPr>
              <a:t>Edmonton, July 12, 2010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1866240" y="3143160"/>
            <a:ext cx="13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Cambria"/>
              </a:rPr>
              <a:t>Gracia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3639240" y="3571920"/>
            <a:ext cx="12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Cambria"/>
              </a:rPr>
              <a:t>Merci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TextBox 6"/>
          <p:cNvSpPr/>
          <p:nvPr/>
        </p:nvSpPr>
        <p:spPr>
          <a:xfrm>
            <a:off x="5267160" y="3857760"/>
            <a:ext cx="18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1903680" y="5000760"/>
            <a:ext cx="243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Bob Harri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Education Internationa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bob.harris@ei-ie.org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9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9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9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3"/>
          <p:cNvSpPr/>
          <p:nvPr/>
        </p:nvSpPr>
        <p:spPr>
          <a:xfrm>
            <a:off x="2275560" y="564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www.ei-ie.org/handsup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7143840" cy="3571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SCAN0002.JPG"/>
          <p:cNvPicPr/>
          <p:nvPr/>
        </p:nvPicPr>
        <p:blipFill>
          <a:blip r:embed="rId1"/>
          <a:srcRect l="13268" t="0" r="13268" b="63654"/>
          <a:stretch/>
        </p:blipFill>
        <p:spPr>
          <a:xfrm>
            <a:off x="1332000" y="1268280"/>
            <a:ext cx="6311880" cy="4370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Funding Education: Crisis Watch"/>
          <p:cNvPicPr/>
          <p:nvPr/>
        </p:nvPicPr>
        <p:blipFill>
          <a:blip r:embed="rId1"/>
          <a:stretch/>
        </p:blipFill>
        <p:spPr>
          <a:xfrm>
            <a:off x="1401840" y="1779480"/>
            <a:ext cx="5840280" cy="34149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2"/>
          <p:cNvSpPr/>
          <p:nvPr/>
        </p:nvSpPr>
        <p:spPr>
          <a:xfrm>
            <a:off x="1634760" y="371484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http://fundingeducation.blogspot.com/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TextBox 3"/>
          <p:cNvSpPr/>
          <p:nvPr/>
        </p:nvSpPr>
        <p:spPr>
          <a:xfrm>
            <a:off x="1645560" y="85716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Cambria"/>
              </a:rPr>
              <a:t>Blog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4383720" y="641520"/>
            <a:ext cx="120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Phase 3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519880" y="6714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011600" y="549360"/>
            <a:ext cx="30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Profiles of a crisis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78160" y="112536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BAILOU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9" name="Group 18"/>
          <p:cNvGrpSpPr/>
          <p:nvPr/>
        </p:nvGrpSpPr>
        <p:grpSpPr>
          <a:xfrm>
            <a:off x="971640" y="1413000"/>
            <a:ext cx="2357280" cy="878760"/>
            <a:chOff x="971640" y="1413000"/>
            <a:chExt cx="2357280" cy="878760"/>
          </a:xfrm>
        </p:grpSpPr>
        <p:sp>
          <p:nvSpPr>
            <p:cNvPr id="100" name="TextBox 6"/>
            <p:cNvSpPr/>
            <p:nvPr/>
          </p:nvSpPr>
          <p:spPr>
            <a:xfrm>
              <a:off x="971640" y="1413000"/>
              <a:ext cx="13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Cambria"/>
                </a:rPr>
                <a:t>  </a:t>
              </a:r>
              <a:r>
                <a:rPr b="0" lang="fr-CH" sz="1800" spc="-1" strike="noStrike">
                  <a:solidFill>
                    <a:srgbClr val="000000"/>
                  </a:solidFill>
                  <a:latin typeface="Cambria"/>
                </a:rPr>
                <a:t>AIG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1" name="TextBox 7"/>
            <p:cNvSpPr/>
            <p:nvPr/>
          </p:nvSpPr>
          <p:spPr>
            <a:xfrm>
              <a:off x="971640" y="162684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0" lang="fr-CH" sz="1800" spc="-1" strike="noStrike">
                  <a:solidFill>
                    <a:srgbClr val="000000"/>
                  </a:solidFill>
                  <a:latin typeface="Cambria"/>
                </a:rPr>
                <a:t>Banks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2" name="TextBox 8"/>
            <p:cNvSpPr/>
            <p:nvPr/>
          </p:nvSpPr>
          <p:spPr>
            <a:xfrm>
              <a:off x="971640" y="1923480"/>
              <a:ext cx="23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Cambria"/>
                </a:rPr>
                <a:t>  </a:t>
              </a:r>
              <a:r>
                <a:rPr b="0" lang="fr-CH" sz="1800" spc="-1" strike="noStrike">
                  <a:solidFill>
                    <a:srgbClr val="000000"/>
                  </a:solidFill>
                  <a:latin typeface="Cambria"/>
                </a:rPr>
                <a:t>Auto companies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03" name="TextBox 9"/>
          <p:cNvSpPr/>
          <p:nvPr/>
        </p:nvSpPr>
        <p:spPr>
          <a:xfrm>
            <a:off x="549000" y="220500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STIMULUS PACKAG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1077480" y="247968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Monetary Stimulu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5" name="Group 19"/>
          <p:cNvGrpSpPr/>
          <p:nvPr/>
        </p:nvGrpSpPr>
        <p:grpSpPr>
          <a:xfrm>
            <a:off x="1365840" y="2836800"/>
            <a:ext cx="4301280" cy="694440"/>
            <a:chOff x="1365840" y="2836800"/>
            <a:chExt cx="4301280" cy="694440"/>
          </a:xfrm>
        </p:grpSpPr>
        <p:sp>
          <p:nvSpPr>
            <p:cNvPr id="106" name="TextBox 12"/>
            <p:cNvSpPr/>
            <p:nvPr/>
          </p:nvSpPr>
          <p:spPr>
            <a:xfrm>
              <a:off x="1391400" y="2836800"/>
              <a:ext cx="39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0" lang="fr-CH" sz="1800" spc="-1" strike="noStrike">
                  <a:solidFill>
                    <a:srgbClr val="000000"/>
                  </a:solidFill>
                  <a:latin typeface="Cambria"/>
                </a:rPr>
                <a:t>Reducing cost of credit (interest rates)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7" name="TextBox 13"/>
            <p:cNvSpPr/>
            <p:nvPr/>
          </p:nvSpPr>
          <p:spPr>
            <a:xfrm>
              <a:off x="1365840" y="3132360"/>
              <a:ext cx="430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0" lang="fr-CH" sz="1800" spc="-1" strike="noStrike">
                  <a:solidFill>
                    <a:srgbClr val="000000"/>
                  </a:solidFill>
                  <a:latin typeface="Cambria"/>
                </a:rPr>
                <a:t>Increasing money supply (UK, US, Japan)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08" name="TextBox 14"/>
          <p:cNvSpPr/>
          <p:nvPr/>
        </p:nvSpPr>
        <p:spPr>
          <a:xfrm>
            <a:off x="1149480" y="355140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Fiscal Stimulu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9" name="Group 20"/>
          <p:cNvGrpSpPr/>
          <p:nvPr/>
        </p:nvGrpSpPr>
        <p:grpSpPr>
          <a:xfrm>
            <a:off x="1397160" y="3979800"/>
            <a:ext cx="2928600" cy="657720"/>
            <a:chOff x="1397160" y="3979800"/>
            <a:chExt cx="2928600" cy="657720"/>
          </a:xfrm>
        </p:grpSpPr>
        <p:sp>
          <p:nvSpPr>
            <p:cNvPr id="110" name="TextBox 16"/>
            <p:cNvSpPr/>
            <p:nvPr/>
          </p:nvSpPr>
          <p:spPr>
            <a:xfrm>
              <a:off x="1397160" y="3979800"/>
              <a:ext cx="29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Cambria"/>
                </a:rPr>
                <a:t>Increase spending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11" name="TextBox 17"/>
            <p:cNvSpPr/>
            <p:nvPr/>
          </p:nvSpPr>
          <p:spPr>
            <a:xfrm>
              <a:off x="1421640" y="4269240"/>
              <a:ext cx="12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0" lang="fr-CH" sz="1800" spc="-1" strike="noStrike">
                  <a:solidFill>
                    <a:srgbClr val="000000"/>
                  </a:solidFill>
                  <a:latin typeface="Cambria"/>
                </a:rPr>
                <a:t>Cut taxes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12" name="TextBox 18"/>
          <p:cNvSpPr/>
          <p:nvPr/>
        </p:nvSpPr>
        <p:spPr>
          <a:xfrm>
            <a:off x="539640" y="462276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ff0000"/>
              </a:buClr>
              <a:buFont typeface="Wingdings" charset="2"/>
              <a:buChar char="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IMF ESTIMATED IN JANUARY 2009 THAT 2% OF GLOBAL GDP WAS NEEDED FOR RECOVERY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TextBox 19"/>
          <p:cNvSpPr/>
          <p:nvPr/>
        </p:nvSpPr>
        <p:spPr>
          <a:xfrm>
            <a:off x="596160" y="5265720"/>
            <a:ext cx="48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1080" indent="-1810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NATIONAL STIMULUS PLANS SHOULD BE </a:t>
            </a:r>
            <a:br>
              <a:rPr sz="2000"/>
            </a:br>
            <a:r>
              <a:rPr b="0" lang="fr-CH" sz="2000" spc="-1" strike="noStrike">
                <a:solidFill>
                  <a:srgbClr val="ff0000"/>
                </a:solidFill>
                <a:latin typeface="Cambria"/>
              </a:rPr>
              <a:t>COORDINATED TO HAVE BEST IMPA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TextBox 20"/>
          <p:cNvSpPr/>
          <p:nvPr/>
        </p:nvSpPr>
        <p:spPr>
          <a:xfrm>
            <a:off x="539640" y="590868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PUBLIC SECTOR SPENDING, INCLUDING EDUCATION,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WILL HAVE TWICE THE IMPACT OF TAX CU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921600" y="1670040"/>
            <a:ext cx="121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Phase 4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203200" y="1700280"/>
            <a:ext cx="26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Saving the real economy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383120" y="2492280"/>
            <a:ext cx="38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8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L’Aquila, Italy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July 2009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1837080" y="350028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20 Leader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ittsburgh, USA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pt. 2009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2183040" y="4437000"/>
            <a:ext cx="63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20 Labour Minister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ashington, USA       March 201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046680" y="692280"/>
            <a:ext cx="30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Profiles of a crisis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121" name="Straight Arrow Connector 10"/>
          <p:cNvCxnSpPr/>
          <p:nvPr/>
        </p:nvCxnSpPr>
        <p:spPr>
          <a:xfrm>
            <a:off x="2411280" y="2852640"/>
            <a:ext cx="43272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Straight Arrow Connector 12"/>
          <p:cNvCxnSpPr/>
          <p:nvPr/>
        </p:nvCxnSpPr>
        <p:spPr>
          <a:xfrm>
            <a:off x="3708360" y="3860640"/>
            <a:ext cx="432720" cy="64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pull dir="r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1429560" y="1814400"/>
            <a:ext cx="120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Phase 5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691000" y="1844640"/>
            <a:ext cx="20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A rush to the exi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661320" y="2565360"/>
            <a:ext cx="71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reece, Spain, Portugal, Ireland, the Euro Zone sovereign debt crisi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819360" y="3141720"/>
            <a:ext cx="48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ECD Ministerial Council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ari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y 201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1179720" y="3789360"/>
            <a:ext cx="48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20 Finance Minister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Busan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y 201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599480" y="4365720"/>
            <a:ext cx="55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re budget cut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ermany, France and UK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060280" y="4941720"/>
            <a:ext cx="57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8/G20 Leader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Muskoka/Toronto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June 201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835280" y="5516640"/>
            <a:ext cx="4681440" cy="792000"/>
            <a:chOff x="1835280" y="5516640"/>
            <a:chExt cx="4681440" cy="792000"/>
          </a:xfrm>
        </p:grpSpPr>
        <p:sp>
          <p:nvSpPr>
            <p:cNvPr id="131" name="Oval 9"/>
            <p:cNvSpPr/>
            <p:nvPr/>
          </p:nvSpPr>
          <p:spPr>
            <a:xfrm>
              <a:off x="1835280" y="5516640"/>
              <a:ext cx="4681440" cy="792000"/>
            </a:xfrm>
            <a:prstGeom prst="ellips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2" name="TextBox 10"/>
            <p:cNvSpPr/>
            <p:nvPr/>
          </p:nvSpPr>
          <p:spPr>
            <a:xfrm>
              <a:off x="2689920" y="5588640"/>
              <a:ext cx="298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mbria"/>
                </a:rPr>
                <a:t>Pascal LAMY, DG WTO: 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ambria"/>
                </a:rPr>
                <a:t>“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mbria"/>
                </a:rPr>
                <a:t>THE SHRINKING AGENDA”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33" name="Rectangle 11"/>
          <p:cNvSpPr/>
          <p:nvPr/>
        </p:nvSpPr>
        <p:spPr>
          <a:xfrm>
            <a:off x="2883240" y="907920"/>
            <a:ext cx="30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Profiles of a crisis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114840" y="1214280"/>
            <a:ext cx="239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ambria"/>
              </a:rPr>
              <a:t>Stocks</a:t>
            </a:r>
            <a:r>
              <a:rPr b="0" lang="fr-CH" sz="2000" spc="-1" strike="noStrike">
                <a:solidFill>
                  <a:srgbClr val="000000"/>
                </a:solidFill>
                <a:latin typeface="Cambria"/>
              </a:rPr>
              <a:t> in companie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mbria"/>
              </a:rPr>
              <a:t>traded on regulated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mbria"/>
              </a:rPr>
              <a:t>stock marke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436120" y="64296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mbria"/>
              </a:rPr>
              <a:t>TRADITIONAL CAPITALIS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873160" y="121428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ambria"/>
              </a:rPr>
              <a:t>Corporate bond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5872680" y="1214280"/>
            <a:ext cx="24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ambria"/>
              </a:rPr>
              <a:t>Government bond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38" name="Group 37"/>
          <p:cNvGrpSpPr/>
          <p:nvPr/>
        </p:nvGrpSpPr>
        <p:grpSpPr>
          <a:xfrm>
            <a:off x="1928880" y="1857240"/>
            <a:ext cx="4214880" cy="1041840"/>
            <a:chOff x="1928880" y="1857240"/>
            <a:chExt cx="4214880" cy="1041840"/>
          </a:xfrm>
        </p:grpSpPr>
        <p:cxnSp>
          <p:nvCxnSpPr>
            <p:cNvPr id="139" name="Straight Arrow Connector 20"/>
            <p:cNvCxnSpPr/>
            <p:nvPr/>
          </p:nvCxnSpPr>
          <p:spPr>
            <a:xfrm>
              <a:off x="1928880" y="1999800"/>
              <a:ext cx="1643760" cy="500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40" name="TextBox 8"/>
            <p:cNvSpPr/>
            <p:nvPr/>
          </p:nvSpPr>
          <p:spPr>
            <a:xfrm>
              <a:off x="3273840" y="250020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000000"/>
                  </a:solidFill>
                  <a:latin typeface="Cambria"/>
                </a:rPr>
                <a:t>Banking system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cxnSp>
          <p:nvCxnSpPr>
            <p:cNvPr id="141" name="Straight Arrow Connector 24"/>
            <p:cNvCxnSpPr/>
            <p:nvPr/>
          </p:nvCxnSpPr>
          <p:spPr>
            <a:xfrm flipH="1">
              <a:off x="5143320" y="1857240"/>
              <a:ext cx="1000800" cy="7869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2" name="Straight Arrow Connector 28"/>
            <p:cNvCxnSpPr/>
            <p:nvPr/>
          </p:nvCxnSpPr>
          <p:spPr>
            <a:xfrm flipH="1">
              <a:off x="4142160" y="1929240"/>
              <a:ext cx="2160" cy="643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43" name="TextBox 33"/>
          <p:cNvSpPr/>
          <p:nvPr/>
        </p:nvSpPr>
        <p:spPr>
          <a:xfrm>
            <a:off x="4065480" y="321480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Cambria"/>
              </a:rPr>
              <a:t>Pension Fund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44" name="Group 37"/>
          <p:cNvGrpSpPr/>
          <p:nvPr/>
        </p:nvGrpSpPr>
        <p:grpSpPr>
          <a:xfrm>
            <a:off x="4357440" y="3071880"/>
            <a:ext cx="4113360" cy="1143360"/>
            <a:chOff x="4357440" y="3071880"/>
            <a:chExt cx="4113360" cy="1143360"/>
          </a:xfrm>
        </p:grpSpPr>
        <p:sp>
          <p:nvSpPr>
            <p:cNvPr id="145" name="TextBox 6"/>
            <p:cNvSpPr/>
            <p:nvPr/>
          </p:nvSpPr>
          <p:spPr>
            <a:xfrm>
              <a:off x="6072120" y="3071880"/>
              <a:ext cx="2398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Private/Commercial </a:t>
              </a:r>
              <a:r>
                <a:rPr b="1" lang="fr-CH" sz="2000" spc="-1" strike="noStrike">
                  <a:solidFill>
                    <a:srgbClr val="000000"/>
                  </a:solidFill>
                  <a:latin typeface="Cambria"/>
                </a:rPr>
                <a:t>property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cxnSp>
          <p:nvCxnSpPr>
            <p:cNvPr id="146" name="Straight Arrow Connector 47"/>
            <p:cNvCxnSpPr>
              <a:stCxn id="145" idx="1"/>
            </p:cNvCxnSpPr>
            <p:nvPr/>
          </p:nvCxnSpPr>
          <p:spPr>
            <a:xfrm flipH="1">
              <a:off x="4357440" y="3579840"/>
              <a:ext cx="1715040" cy="635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7" name="Group 44"/>
          <p:cNvGrpSpPr/>
          <p:nvPr/>
        </p:nvGrpSpPr>
        <p:grpSpPr>
          <a:xfrm>
            <a:off x="145800" y="2214720"/>
            <a:ext cx="3014640" cy="1398960"/>
            <a:chOff x="145800" y="2214720"/>
            <a:chExt cx="3014640" cy="1398960"/>
          </a:xfrm>
        </p:grpSpPr>
        <p:sp>
          <p:nvSpPr>
            <p:cNvPr id="148" name="TextBox 9"/>
            <p:cNvSpPr/>
            <p:nvPr/>
          </p:nvSpPr>
          <p:spPr>
            <a:xfrm>
              <a:off x="145800" y="3214800"/>
              <a:ext cx="15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Shareholders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49" name="TextBox 10"/>
            <p:cNvSpPr/>
            <p:nvPr/>
          </p:nvSpPr>
          <p:spPr>
            <a:xfrm>
              <a:off x="1865520" y="321480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Employees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cxnSp>
          <p:nvCxnSpPr>
            <p:cNvPr id="150" name="Straight Arrow Connector 30"/>
            <p:cNvCxnSpPr/>
            <p:nvPr/>
          </p:nvCxnSpPr>
          <p:spPr>
            <a:xfrm flipH="1">
              <a:off x="641520" y="2215440"/>
              <a:ext cx="2160" cy="1072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" name="Straight Arrow Connector 32"/>
            <p:cNvCxnSpPr/>
            <p:nvPr/>
          </p:nvCxnSpPr>
          <p:spPr>
            <a:xfrm>
              <a:off x="1571400" y="2214720"/>
              <a:ext cx="786240" cy="1072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" name="Group 57"/>
          <p:cNvGrpSpPr/>
          <p:nvPr/>
        </p:nvGrpSpPr>
        <p:grpSpPr>
          <a:xfrm>
            <a:off x="75960" y="3214440"/>
            <a:ext cx="4193280" cy="1256400"/>
            <a:chOff x="75960" y="3214440"/>
            <a:chExt cx="4193280" cy="1256400"/>
          </a:xfrm>
        </p:grpSpPr>
        <p:cxnSp>
          <p:nvCxnSpPr>
            <p:cNvPr id="153" name="Straight Arrow Connector 45"/>
            <p:cNvCxnSpPr/>
            <p:nvPr/>
          </p:nvCxnSpPr>
          <p:spPr>
            <a:xfrm flipH="1">
              <a:off x="3429000" y="3214440"/>
              <a:ext cx="429120" cy="929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TextBox 11"/>
            <p:cNvSpPr/>
            <p:nvPr/>
          </p:nvSpPr>
          <p:spPr>
            <a:xfrm>
              <a:off x="75960" y="4071960"/>
              <a:ext cx="419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000000"/>
                  </a:solidFill>
                  <a:latin typeface="Cambria"/>
                </a:rPr>
                <a:t>Personal and corporate taxation </a:t>
              </a:r>
              <a:r>
                <a:rPr b="0" lang="fr-CH" sz="2000" spc="-1" strike="noStrike">
                  <a:solidFill>
                    <a:srgbClr val="000000"/>
                  </a:solidFill>
                  <a:latin typeface="Cambria"/>
                </a:rPr>
                <a:t>on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cxnSp>
          <p:nvCxnSpPr>
            <p:cNvPr id="155" name="Straight Arrow Connector 41"/>
            <p:cNvCxnSpPr/>
            <p:nvPr/>
          </p:nvCxnSpPr>
          <p:spPr>
            <a:xfrm flipH="1">
              <a:off x="713160" y="3643560"/>
              <a:ext cx="2160" cy="500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43"/>
            <p:cNvCxnSpPr/>
            <p:nvPr/>
          </p:nvCxnSpPr>
          <p:spPr>
            <a:xfrm flipH="1">
              <a:off x="2428560" y="3643200"/>
              <a:ext cx="13680" cy="529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7" name="Rectangle 29"/>
          <p:cNvSpPr/>
          <p:nvPr/>
        </p:nvSpPr>
        <p:spPr>
          <a:xfrm>
            <a:off x="2930760" y="1571760"/>
            <a:ext cx="22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Cambria"/>
              </a:rPr>
              <a:t>companies raise capital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5929200" y="1571760"/>
            <a:ext cx="271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mbria"/>
              </a:rPr>
              <a:t>finance for infrastructure</a:t>
            </a:r>
            <a:br>
              <a:rPr sz="1600"/>
            </a:br>
            <a:r>
              <a:rPr b="0" lang="fr-CH" sz="1600" spc="-1" strike="noStrike">
                <a:solidFill>
                  <a:srgbClr val="000000"/>
                </a:solidFill>
                <a:latin typeface="Cambria"/>
              </a:rPr>
              <a:t>(roads, schools)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3352320" y="27860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Circulates credi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Rectangle 42"/>
          <p:cNvSpPr/>
          <p:nvPr/>
        </p:nvSpPr>
        <p:spPr>
          <a:xfrm>
            <a:off x="285840" y="45007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mbria"/>
              </a:rPr>
              <a:t>revenues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Cambria"/>
              </a:rPr>
              <a:t>assets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Cambria"/>
              </a:rPr>
              <a:t>capital gains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Cambria"/>
              </a:rPr>
              <a:t>consumption (VAT)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5643720" y="471492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Recurrent spending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Debt service on  capital/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infrastructure investment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62" name="Group 56"/>
          <p:cNvGrpSpPr/>
          <p:nvPr/>
        </p:nvGrpSpPr>
        <p:grpSpPr>
          <a:xfrm>
            <a:off x="3857760" y="4357800"/>
            <a:ext cx="3387600" cy="928440"/>
            <a:chOff x="3857760" y="4357800"/>
            <a:chExt cx="3387600" cy="928440"/>
          </a:xfrm>
        </p:grpSpPr>
        <p:sp>
          <p:nvSpPr>
            <p:cNvPr id="163" name="TextBox 12"/>
            <p:cNvSpPr/>
            <p:nvPr/>
          </p:nvSpPr>
          <p:spPr>
            <a:xfrm>
              <a:off x="5583240" y="435780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000000"/>
                  </a:solidFill>
                  <a:latin typeface="Cambria"/>
                </a:rPr>
                <a:t>Public sector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64" name="Right Arrow 51"/>
            <p:cNvSpPr/>
            <p:nvPr/>
          </p:nvSpPr>
          <p:spPr>
            <a:xfrm>
              <a:off x="3857760" y="4857840"/>
              <a:ext cx="1571400" cy="428400"/>
            </a:xfrm>
            <a:prstGeom prst="rightArrow">
              <a:avLst>
                <a:gd name="adj1" fmla="val 50000"/>
                <a:gd name="adj2" fmla="val 5001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pull dir="r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2:45:33Z</dcterms:created>
  <dc:creator>Bob Harris</dc:creator>
  <dc:description/>
  <dc:language>en-US</dc:language>
  <cp:lastModifiedBy>claudcarr</cp:lastModifiedBy>
  <dcterms:modified xsi:type="dcterms:W3CDTF">2010-07-12T10:02:52Z</dcterms:modified>
  <cp:revision>135</cp:revision>
  <dc:subject/>
  <dc:title>Responding to the Global Economic Crisis</dc:title>
</cp:coreProperties>
</file>